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1079C2AE-16A6-4DC2-A03A-D63F2BA7A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12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2: Processes &amp; Processors in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a Threads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 User-Sp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ds run on top of a run-tim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Kernel thinks it’s running single-thread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read-switching is faster than trapping to the kerne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ustomized scheduling algorith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caling is better since kernel space is fix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ust implement traps as non-blocking procedur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clock interrupts to flush out blocked threa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 applications tend to block ofte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a Threads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 the Kern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run-tim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ds managed in process management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ing uses system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ather than run-time procedur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 to Eith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ibrary procedures are not re-entr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gnals may be interpreted differ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LETE versus BACKSPA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SF’s Distributed Computing Environment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d Management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ill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ing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mplate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EX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dition Variable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Variable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92280" y="160668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63880" y="160668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new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280" y="198756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63880" y="198756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thread when 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2280" y="236844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3880" y="236844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ent thread can wait for a child to 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2280" y="274968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3880" y="274968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thread disowns a child so can exit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2280" y="358776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3880" y="358776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kill another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280" y="3968640"/>
            <a:ext cx="1358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3880" y="3968640"/>
            <a:ext cx="6464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/Disable ability for others to kill this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-172080" y="2162520"/>
            <a:ext cx="1287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-20160" y="3762720"/>
            <a:ext cx="92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1360" y="4730760"/>
            <a:ext cx="1644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ched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8440" y="4730760"/>
            <a:ext cx="6178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chedul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360" y="5111640"/>
            <a:ext cx="1644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ched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8440" y="5111640"/>
            <a:ext cx="6178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schedul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1360" y="5492880"/>
            <a:ext cx="1644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p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8440" y="5492880"/>
            <a:ext cx="6178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cheduling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360" y="5873760"/>
            <a:ext cx="1644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p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8440" y="5873760"/>
            <a:ext cx="6178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scheduling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-227880" y="52869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2280" y="19875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280" y="2368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280" y="27496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setp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2280" y="3511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setstack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2280" y="38926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getstack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2280" y="42735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mutexattr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2280" y="4654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mutexattr_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2280" y="50356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 mutexattr_setkind_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2280" y="54165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 mutexattr_getkind_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2280" y="5797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condattr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2280" y="61786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condattr_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8640" y="198756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parameter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8640" y="2368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parameter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8640" y="274968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efault scheduling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8640" y="3511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efault stack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2280" y="31305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_getp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8640" y="313056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efault scheduling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8640" y="389268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efault stack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8640" y="427356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MUTEX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8640" y="4654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MUTEX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8640" y="503568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efault MUTEX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8640" y="541656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default MUTEX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8640" y="5797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condition variable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8640" y="617868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condition variable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7880" y="1403280"/>
            <a:ext cx="808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lates eliminate the need for specifying parameters with thread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92280" y="367020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2280" y="4051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destr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2280" y="443232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2280" y="51944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un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8640" y="367020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MUTEX semaph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8640" y="4051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a MUTEX semaph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8640" y="443232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 a MUTEX, fail if already 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8640" y="519444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k a MU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2280" y="481320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_try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8640" y="4813200"/>
            <a:ext cx="4559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lock, return a statu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EX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st MUTE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quiring same lock a second time will blo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riendly MUTE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quiring same lock a second time will NOT blo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sting is arbitrarily dee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2280" y="16826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280" y="20638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destr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2280" y="24447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2280" y="32068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2840" y="168264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conditio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82840" y="206388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s a conditio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82840" y="244476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 signal or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82840" y="320688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ke up all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2280" y="28256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_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82840" y="282564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ke up only one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153360" y="239184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2280" y="404496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2280" y="442584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2280" y="4807080"/>
            <a:ext cx="3263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82840" y="404496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82840" y="442584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s pointer value to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82840" y="4807080"/>
            <a:ext cx="5245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pointer value from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-1440" y="4448520"/>
            <a:ext cx="91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hread is to Process as Process is to Machine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--Tanenbau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-Threading Model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patcher, Team, Pipeline, Cli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ign Issu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ermin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ynchroniz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ther typical problem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Mod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or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Mod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or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ingle CPU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cess, Memory, File, I/O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entralized, Networked, Distributed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Price/Performance, Reliability, Sharing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Software, Networks, Security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stes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Tightly coupled software on tightly coupled bu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ommunic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SO-OSI Model (Seven Layer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ocols (Connection-Oriented, Connectionles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ient-Server Model (Microkerne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ynchroniz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ocks, Mutual Exclusion, Election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ocesses in Distributed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rodu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hread is to Process as Process is to Machine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--Tanenbau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thre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elongs to the same proc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s its own program coun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s its own sta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uns in quasi-parallel with other threa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 threa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ve exactly the same virtual address spa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hare the same global variab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an wipe out other threa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wned by a single us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signed to cooperate rather than compete for resour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 Us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patc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ads incoming reques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nds it to Worker Threa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ork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akes up and performs the handed tas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termines which threads to wake up and put to sleep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-threading Mod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patch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ipel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44560" y="1454040"/>
            <a:ext cx="3111480" cy="30355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560" y="4502160"/>
            <a:ext cx="31114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6680" y="4730760"/>
            <a:ext cx="1587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1530360"/>
            <a:ext cx="2882880" cy="2882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362320" y="50227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916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295280" y="32702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1760" y="3276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987120" y="2396880"/>
            <a:ext cx="1663920" cy="31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45332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8960" y="412128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3740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236952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740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740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7560" y="18288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4240" y="1835280"/>
            <a:ext cx="1396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7040" y="1835280"/>
            <a:ext cx="1396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9840" y="1835280"/>
            <a:ext cx="1396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35680" y="1454040"/>
            <a:ext cx="3111480" cy="30355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5680" y="4502160"/>
            <a:ext cx="31114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45160" y="4730760"/>
            <a:ext cx="18162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1640" y="1530360"/>
            <a:ext cx="2882880" cy="2882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53080" y="50227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54918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40800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50346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0880" y="5823000"/>
            <a:ext cx="216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tche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56040" y="5823000"/>
            <a:ext cx="159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59490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191232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ing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44560" y="1454040"/>
            <a:ext cx="3111480" cy="30355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560" y="4502160"/>
            <a:ext cx="31114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6680" y="4730760"/>
            <a:ext cx="1587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1530360"/>
            <a:ext cx="2882880" cy="2882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362320" y="50227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983880" y="48769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990720" y="32702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6840" y="3276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22472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748520" y="2751480"/>
            <a:ext cx="1677960" cy="27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29320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9680" y="327672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16160" y="3276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2640" y="3276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680" y="1454040"/>
            <a:ext cx="3111480" cy="30355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5680" y="4502160"/>
            <a:ext cx="31114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21480" y="473076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11640" y="1530360"/>
            <a:ext cx="2882880" cy="2882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324480" y="50227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4918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408000" y="2748240"/>
            <a:ext cx="166356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45360" y="3740040"/>
            <a:ext cx="901800" cy="1663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346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740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7840" y="5823000"/>
            <a:ext cx="185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55320" y="5823000"/>
            <a:ext cx="159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6912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73960" y="5416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5949000" y="2749680"/>
            <a:ext cx="166356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ing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 for Thread Pack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s Pack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set of library cal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ad Cre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ti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umber of threads &amp; stack size is fixed at compile ti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mple bu inflexi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ynami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e &amp; Destroy “on-the-fly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quires pointer, stack size, scheduling priority, etc.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mplex but flexi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in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it Graceful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 Killed from outsid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 for Thread Pack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nchroniz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ex semapho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ck, Unlock, Trylo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d for short-term lock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dition Vari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ociated with a mutex at the time of cre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d for long-term wait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Probl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 “Wait” and “Unlock” atomical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vari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fine thread-wide global variab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reates three levels of visible variabl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et user specify the algorithm to us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3:12:24Z</dcterms:created>
  <dc:creator>Dean Hipwell</dc:creator>
  <dc:description/>
  <dc:language>en-US</dc:language>
  <cp:lastModifiedBy>hipwelld</cp:lastModifiedBy>
  <dcterms:modified xsi:type="dcterms:W3CDTF">2001-01-15T19:03:27Z</dcterms:modified>
  <cp:revision>13</cp:revision>
  <dc:subject>CST400 - Operating System Theory &amp; Design</dc:subject>
  <dc:title>Chap 12 - Processes &amp; Processors in Distributed Systems</dc:title>
</cp:coreProperties>
</file>