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FD1D7ABA-90F4-4AA3-8624-AD1D5CAD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5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&amp; Outp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7360" y="2139840"/>
            <a:ext cx="8140680" cy="1206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89680" y="4735440"/>
            <a:ext cx="1673280" cy="1338480"/>
            <a:chOff x="6889680" y="4735440"/>
            <a:chExt cx="1673280" cy="1338480"/>
          </a:xfrm>
        </p:grpSpPr>
        <p:sp>
          <p:nvSpPr>
            <p:cNvPr id="64" name=""/>
            <p:cNvSpPr/>
            <p:nvPr/>
          </p:nvSpPr>
          <p:spPr>
            <a:xfrm>
              <a:off x="7678800" y="473544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8800" y="580860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58658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99440" y="5187960"/>
              <a:ext cx="15084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99440" y="5357880"/>
              <a:ext cx="26352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04160" y="5808600"/>
              <a:ext cx="26496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46920" y="4792680"/>
              <a:ext cx="2635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72280" y="4735440"/>
              <a:ext cx="2635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889680" y="4735440"/>
              <a:ext cx="1673280" cy="1281240"/>
              <a:chOff x="6889680" y="4735440"/>
              <a:chExt cx="1673280" cy="1281240"/>
            </a:xfrm>
          </p:grpSpPr>
          <p:sp>
            <p:nvSpPr>
              <p:cNvPr id="73" name=""/>
              <p:cNvSpPr/>
              <p:nvPr/>
            </p:nvSpPr>
            <p:spPr>
              <a:xfrm>
                <a:off x="8074080" y="5413320"/>
                <a:ext cx="4888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7453440" y="4848120"/>
                <a:ext cx="974520" cy="943200"/>
                <a:chOff x="7453440" y="4848120"/>
                <a:chExt cx="974520" cy="943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453440" y="4848120"/>
                  <a:ext cx="941400" cy="9432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2200" y="5437080"/>
                  <a:ext cx="185760" cy="24300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17" y="152"/>
                      </a:moveTo>
                      <a:lnTo>
                        <a:pt x="116" y="19"/>
                      </a:lnTo>
                      <a:lnTo>
                        <a:pt x="66" y="0"/>
                      </a:lnTo>
                      <a:lnTo>
                        <a:pt x="0" y="139"/>
                      </a:lnTo>
                      <a:lnTo>
                        <a:pt x="17" y="15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7115040" y="4735440"/>
                <a:ext cx="941400" cy="943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89680" y="518796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15040" y="4792680"/>
                <a:ext cx="208080" cy="208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15040" y="5413320"/>
                <a:ext cx="208080" cy="208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46920" y="4962600"/>
                <a:ext cx="320760" cy="32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791480" y="5526000"/>
                <a:ext cx="4906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84960" y="5413320"/>
                <a:ext cx="48888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0320" y="5526000"/>
                <a:ext cx="48924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78800" y="4905360"/>
                <a:ext cx="490320" cy="49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31160" y="4861080"/>
                <a:ext cx="1244520" cy="1071360"/>
              </a:xfrm>
              <a:custGeom>
                <a:avLst/>
                <a:gdLst/>
                <a:ahLst/>
                <a:rect l="l" t="t" r="r" b="b"/>
                <a:pathLst>
                  <a:path w="784" h="675">
                    <a:moveTo>
                      <a:pt x="598" y="674"/>
                    </a:moveTo>
                    <a:lnTo>
                      <a:pt x="456" y="590"/>
                    </a:lnTo>
                    <a:lnTo>
                      <a:pt x="285" y="612"/>
                    </a:lnTo>
                    <a:lnTo>
                      <a:pt x="175" y="450"/>
                    </a:lnTo>
                    <a:lnTo>
                      <a:pt x="147" y="437"/>
                    </a:lnTo>
                    <a:lnTo>
                      <a:pt x="70" y="386"/>
                    </a:lnTo>
                    <a:lnTo>
                      <a:pt x="50" y="345"/>
                    </a:lnTo>
                    <a:lnTo>
                      <a:pt x="0" y="270"/>
                    </a:lnTo>
                    <a:lnTo>
                      <a:pt x="8" y="246"/>
                    </a:lnTo>
                    <a:lnTo>
                      <a:pt x="127" y="27"/>
                    </a:lnTo>
                    <a:lnTo>
                      <a:pt x="210" y="0"/>
                    </a:lnTo>
                    <a:lnTo>
                      <a:pt x="482" y="25"/>
                    </a:lnTo>
                    <a:lnTo>
                      <a:pt x="502" y="59"/>
                    </a:lnTo>
                    <a:lnTo>
                      <a:pt x="682" y="99"/>
                    </a:lnTo>
                    <a:lnTo>
                      <a:pt x="715" y="84"/>
                    </a:lnTo>
                    <a:lnTo>
                      <a:pt x="783" y="446"/>
                    </a:lnTo>
                    <a:lnTo>
                      <a:pt x="598" y="67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615960" y="3206880"/>
            <a:ext cx="7491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54040" y="3206880"/>
            <a:ext cx="978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21080" y="3206880"/>
            <a:ext cx="135864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8640" y="3206880"/>
            <a:ext cx="135900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6560" y="3206880"/>
            <a:ext cx="135900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64480" y="3206880"/>
            <a:ext cx="1358640" cy="97776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9800" y="2819520"/>
            <a:ext cx="72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28386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11240" y="450216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44760" y="51116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1972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21080" y="48006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1960" y="450216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5480" y="51116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41972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1440" y="4800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6680" y="5340240"/>
            <a:ext cx="596880" cy="59688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6880" y="4807080"/>
            <a:ext cx="6224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92680" y="5797440"/>
            <a:ext cx="1130040" cy="596880"/>
          </a:xfrm>
          <a:prstGeom prst="cube">
            <a:avLst>
              <a:gd name="adj" fmla="val 249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41972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4662360" y="3976920"/>
            <a:ext cx="5965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6240" y="4427640"/>
            <a:ext cx="5965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781714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78171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07080" y="4730760"/>
            <a:ext cx="596880" cy="29196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21480" y="5187960"/>
            <a:ext cx="825480" cy="825480"/>
          </a:xfrm>
          <a:prstGeom prst="cube">
            <a:avLst>
              <a:gd name="adj" fmla="val 249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419724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77600" y="5060880"/>
            <a:ext cx="108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760" y="2470320"/>
            <a:ext cx="153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240" y="2165400"/>
            <a:ext cx="178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16800" y="1339920"/>
            <a:ext cx="36792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7" y="0"/>
                </a:moveTo>
                <a:arcTo wR="10800" hR="10800" stAng="-5429635" swAng="5429635"/>
                <a:lnTo>
                  <a:pt x="10800" y="10800"/>
                </a:lnTo>
                <a:close/>
              </a:path>
              <a:path fill="none" w="21600" h="21600">
                <a:moveTo>
                  <a:pt x="10707" y="0"/>
                </a:moveTo>
                <a:arcTo wR="10800" hR="10800" stAng="-5429635" swAng="542963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5641920" y="1442880"/>
            <a:ext cx="38664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1280" y="1530360"/>
            <a:ext cx="1130040" cy="520560"/>
          </a:xfrm>
          <a:prstGeom prst="parallelogram">
            <a:avLst>
              <a:gd name="adj" fmla="val 5426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4573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73760" y="1758960"/>
            <a:ext cx="12063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System Set-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3240" y="16066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3240" y="19112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83240" y="22161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3240" y="25210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3240" y="28256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3240" y="31305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83240" y="34354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3240" y="37400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83240" y="40449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3240" y="43498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3240" y="46544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3240" y="49593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3240" y="52642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3240" y="5568840"/>
            <a:ext cx="520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3240" y="587376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3240" y="6178680"/>
            <a:ext cx="5209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92480" y="16066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Cl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2480" y="19112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2480" y="22161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8259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2480" y="25210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2:CO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92480" y="28256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1:CO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2480" y="31305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2480" y="34354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92480" y="37400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92480" y="40449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2480" y="43498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rected IR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2480" y="46544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92480" y="49593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52642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92480" y="5568840"/>
            <a:ext cx="2501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 Co-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92480" y="587376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92480" y="6178680"/>
            <a:ext cx="2501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rv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3040" y="16066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3040" y="19112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0-00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3040" y="22161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3040" y="25210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F8-02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3040" y="28256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F8-03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3040" y="31305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83040" y="34354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F0-03F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3040" y="37400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78-03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83040" y="40449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40-00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43498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3040" y="46544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83040" y="49593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83040" y="52642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83040" y="5568840"/>
            <a:ext cx="15112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3040" y="587376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20-032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3040" y="6178680"/>
            <a:ext cx="15112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pped I/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rmal 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ler loads data from disk to buff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se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/S loads buffer contents 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MA 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PU passes three thing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address of the block to be retriev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emory address of where the block will g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bytes to transf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ler reads entire block into bu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py first word in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 DMA address, decrement byte cou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rupt when byte count is zer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wo-Step buffering requires interleaving to improve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oal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rupt Hand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-Independen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-Space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Independ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from Floppy or Hard Dr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iform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all files and devices in the same w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ndle Errors Close to the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r level error correction is fas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 Interrupt-Driven Devices Look Like Blocking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ndle Both Shared and Dedicated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of I/O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-Space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brary procedures that begin I/O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oolers and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-Independen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unique interface to CPU, RAM, &amp;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common interface for all driv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all “device-dependent” c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ept abstract requests from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ecute specific commands to the de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rupt Hand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est-Level of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rol what happens after an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age capacity is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ce per bit is l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n-volat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ylinders, Tracks, Secto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ek Time, Rotational Delay, Transfer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Tri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r can “overlap” see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rm Schedul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rst-Come, First Serv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ys on one track until requested sector goes b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not reduce Seek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ortest Seek First (SSF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ifts arm to adjacent cylinders to pick up sectors opportunist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total arm travel during multiple see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reme outer and inner tracks may get poor servi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levator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ce in motion, travel to the extreme tra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service to extreme tra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rades overall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rm Schedul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ngle Scan Dir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ce in motion, keep going in same di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nor improvement on Elevator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xt Sect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s sectors in same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different tra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Seek time, only Rotational Dela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mechanism to check current sector numb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dundant Array of Inexpensive Disks (RAID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8 disks run in parall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2 deliver 1 bit each of a 32 bit wo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aining 6 bits are used for error cor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ming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ests for non-existent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urn an error mes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nsient Checksum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sed by dust on the h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eat the access requ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ermanent Checksum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physically dama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titute a spare tr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m sent to cylinder 6, but went to 7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r “Recalibrates” the arm tra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roller Erro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ands ref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et the controll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k-at-a-Time Ca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and store an entire track of data to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write to 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ld have on-board controller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s delay for consecutive seeks to same tr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controller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handling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need to deconflict disk driver or even device-independent softwar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 Di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main memory to store blocks of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river requests are redirected to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Seek or Rotational De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rmally uses assembly languag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Clock: 110V, 60Hz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ystal Clo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ystal Oscillator generates pulses at 5-100MH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decrements at each pul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ding Register is used to load the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36920" indent="-176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s to load the counter are called “Clock Ticks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“Time-of-Day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Processes from running too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ccount for CPU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ndle warnings transmitted to user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 Watchdog Tim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 profiling, monitoring, and statistics gath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yboa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u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pl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ARTs (RS-232 cable interfac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-Mapped 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one line of characters at a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 characters by 24 l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it Mapped 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bit/byte/word controls one pix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utput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ciples of I/O Soft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ermina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put/Output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Resource: Commun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 to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activity of some ki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, Input, Output,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process Communication (IPC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, Counters, Monitors,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assical IPC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ce conditions are B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 prevents race cond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 CPU time equitably, but according to prio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ing Processes from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Introduction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les, Directories, and Disk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Files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ming, Structures, Types, Attributes, Operat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irectories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ierarchical, Path Names, Operation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tiguous, Linked List, I-Nod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isk Space Management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Block Size, Free Blocks, Bad Blocks, Disk Quota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sistency Check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Cache, Disk Control &amp; Format choices</a:t>
            </a:r>
            <a:endParaRPr b="1" i="1" lang="en-US" sz="1800" spc="-1" strike="noStrike">
              <a:solidFill>
                <a:srgbClr val="cc0000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ata Loss, Intruders, Privac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iruses, Worms, Attack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main Control Tabl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I/O Hard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/O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vice Controll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 Memory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s information in fixed-size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&amp; Write blocks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Drives, Tape Driv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livers or accepts a stream of charac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address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&amp; Write is contiguou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rminals, Printers, NIUs, Mice, Keyboards, etc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ther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s, Memory Mapped Display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ice Controll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face Componen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chanical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ircuit board connects to the B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ble connects to the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nic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ts voltage levels and signaling rat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ores firmware, register and DIP-switch valu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ftwar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evice drivers communicate with the O/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w-Level drivers communicate with the devi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rupts signal the CPU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urpos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vert serial bit-stream into bytes or 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rror Corr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51:46Z</dcterms:created>
  <dc:creator>Dean Hipwell</dc:creator>
  <dc:description/>
  <dc:language>en-US</dc:language>
  <cp:lastModifiedBy>hipwelld</cp:lastModifiedBy>
  <cp:lastPrinted>1996-08-14T05:34:18Z</cp:lastPrinted>
  <dcterms:modified xsi:type="dcterms:W3CDTF">2001-01-15T19:03:50Z</dcterms:modified>
  <cp:revision>19</cp:revision>
  <dc:subject>CST400 - Operating System Theory &amp; Design</dc:subject>
  <dc:title>Chap 5 - Input &amp; Output</dc:title>
</cp:coreProperties>
</file>