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0EE39AC7-7186-480B-9A5D-879C66B4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BM PC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1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2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3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4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5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S-DOS Version 6.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ing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MS-DOS She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figuring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in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l 8088 Architech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Memory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end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Upper Memory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and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nd Directory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3:06:28Z</dcterms:created>
  <dc:creator>Dean Hipwell</dc:creator>
  <dc:description/>
  <dc:language>en-US</dc:language>
  <cp:lastModifiedBy>hipwelld</cp:lastModifiedBy>
  <dcterms:modified xsi:type="dcterms:W3CDTF">2001-01-15T19:03:38Z</dcterms:modified>
  <cp:revision>5</cp:revision>
  <dc:subject>CST400 - Operating System Theory &amp; Design</dc:subject>
  <dc:title>Chap 7 - MS-DOS</dc:title>
</cp:coreProperties>
</file>