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1440" y="36000"/>
            <a:ext cx="7687800" cy="425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76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76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1319040" indent="-179280">
              <a:lnSpc>
                <a:spcPct val="85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25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T400 - Operating System Theory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35800" y="662940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:  </a:t>
            </a:r>
            <a:fld id="{34A20CC9-958A-436E-823E-BA3F2C6B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61440" y="6629400"/>
            <a:ext cx="82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00c04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F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447920"/>
            <a:ext cx="4419360" cy="6094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ST400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rating Systems Theory &amp;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S. Tanenbaum. “Modern Operating Systems”. Prentice-Hall.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repared by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an Hipwell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quenti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rt at the beginning and read to the e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skipping around, but rewinding ok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: Magnetic tape stor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ando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bytes in any order or by using key-look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s: Disk drive storage, databa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tarting Pos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ecified by byte cou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ek operation looks for specific byte sequ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inition:  Extra items about each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me Attributes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WX for Owner, Group, Us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sswor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eat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wn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lag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-Only, Hidden, System, Archive, ASCII/Binary, Random/Sequential, Temporary, 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 Leng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Key Position and Lengt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ion, Last Access, Last Chang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urrent, Maximu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rea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le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pe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os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a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ri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en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e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t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t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na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1430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py (See page 1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ssoc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com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oad/U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ps a file into a virtual address spa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nal tables make the file a backing sto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utomatically created using page faul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ks best with seg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 Create, Open, Close, Read or Write comma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voids complex and cumbersome file routin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advantag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ize automatically set to equal frame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nges aren’t saved until a page is repla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may be larger than page, segment, or memory siz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ierarchical Directory Syst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th Nam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y Oper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273560" y="35114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11440" y="41212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5680" y="4121280"/>
            <a:ext cx="21564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9680" y="47307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1144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35680" y="47307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7440" y="47307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8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9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11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92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3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54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5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656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7440" y="53402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8680" y="534024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4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16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9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0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21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2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83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64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45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64080" y="3727440"/>
            <a:ext cx="6728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5840" y="374004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01960" y="4336920"/>
            <a:ext cx="67320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4080" y="4349880"/>
            <a:ext cx="672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9440" y="434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434988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3680" y="434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39840" y="4946400"/>
            <a:ext cx="67320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1960" y="495936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768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57360" y="495936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7640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81240" y="4959360"/>
            <a:ext cx="3934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0064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0544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505480" y="495936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24520" y="495936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3680" y="4959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30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1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92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54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5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6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8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9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0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21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6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7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9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30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1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92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73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35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6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7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2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3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44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5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6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7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8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1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92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2604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57974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8160" y="57974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0236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83240" y="587376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64480" y="587376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8680" y="59500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956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0440" y="59500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5464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35880" y="6026040"/>
            <a:ext cx="21564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6760" y="6026040"/>
            <a:ext cx="216000" cy="21600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69040" y="34830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31880" y="409248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00480" y="4702320"/>
            <a:ext cx="17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81720" y="5235480"/>
            <a:ext cx="17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12240" y="57690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 Directory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Organizes files for easy retrieval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ypical attributes for each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Na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ttribu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Addr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 N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bsolu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/usr/ast/mailbo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:\ccmail\user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Working Director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/usr/a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:\ccmai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lativ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lbo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1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rent Directory:  “.”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rent Directory:    “..”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ory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mov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ngeDir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nam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link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t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ubstitut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l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Xcop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910840" y="2901960"/>
            <a:ext cx="2977200" cy="1076760"/>
          </a:xfrm>
          <a:custGeom>
            <a:avLst/>
            <a:gdLst>
              <a:gd name="textAreaLeft" fmla="*/ 110160 w 2977200"/>
              <a:gd name="textAreaRight" fmla="*/ 2867040 w 2977200"/>
              <a:gd name="textAreaTop" fmla="*/ 39600 h 1076760"/>
              <a:gd name="textAreaBottom" fmla="*/ 860040 h 1076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3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What disk blo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go with what fi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52960" y="3807000"/>
          <a:ext cx="19144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3807000"/>
                    <a:ext cx="19144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lementing 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hared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Space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Reliabil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Performa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tiguous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files in an unbroken sequence of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mple; Fa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ax File size must be known at creation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fragmentation is heav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5960" indent="-1659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 Allo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files in a linked list of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rst word points to next bloc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 fragmentation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rectory entries stay simp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38840" indent="-16164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ndom access is very slow;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1800" indent="-1724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 size is not power of 2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view and Preview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 Allocation using an Inde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 block pointers in a separate tab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Allocation Table (FAT)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covers lost overhead with simple linked list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andom access is simplifie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ntire table must be maintained on disk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 MB table for 500 MB disk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-Nod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milar to multi-level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block pointers point to tables of more pointe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duces space requirements for table storag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duces table search ti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73560" y="58672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7560" y="5264280"/>
            <a:ext cx="12063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93360" y="5738760"/>
            <a:ext cx="624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6880" y="5264280"/>
            <a:ext cx="444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1280" y="474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640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2120" y="573876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6360" y="5264280"/>
            <a:ext cx="29196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1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18960" y="4748040"/>
            <a:ext cx="693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35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84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07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830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356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79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02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928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51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74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00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023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5464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728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9560" y="52642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03520" y="5738760"/>
            <a:ext cx="216252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Disk Block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520" y="53578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440" y="5486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5797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5797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quiremen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CII filename must map to disk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attributes must be easily retriev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CP/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and only one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block numbers stored with directory ent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entry points to up to 16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87560" y="4349880"/>
            <a:ext cx="12063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6880" y="4349880"/>
            <a:ext cx="444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51280" y="38336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64080" y="4349880"/>
            <a:ext cx="1396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99400" y="482436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16360" y="4349880"/>
            <a:ext cx="1511280" cy="44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81320" y="4062240"/>
            <a:ext cx="98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40240" y="4349880"/>
            <a:ext cx="2923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45160" y="4349880"/>
            <a:ext cx="2919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4349880"/>
            <a:ext cx="29196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4640" y="4349880"/>
            <a:ext cx="5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6880" y="490068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6200" y="40622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68560" y="4824360"/>
            <a:ext cx="853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2000" y="4062240"/>
            <a:ext cx="53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6480" y="44434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01760" y="4572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7280" y="5492880"/>
            <a:ext cx="143496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07600" y="5433840"/>
            <a:ext cx="10425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MS-DO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y entries are 32 bytes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rst block number indexes into the F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bsequent blocks are recovered from the F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197240" y="3282840"/>
            <a:ext cx="21211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12960" y="3681360"/>
            <a:ext cx="85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92680" y="3282840"/>
            <a:ext cx="2919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000" y="337644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8280" y="35053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731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82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82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731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82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731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82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731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82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5720" y="4519440"/>
            <a:ext cx="88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2108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2108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2108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2108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2108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55200" y="4519440"/>
            <a:ext cx="88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835280" y="4793760"/>
            <a:ext cx="44424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4800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735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86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35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86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735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86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35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86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735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86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1680" y="4519440"/>
            <a:ext cx="1013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82840" y="4794120"/>
            <a:ext cx="44460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4004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2148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148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2148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148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148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06280" y="45194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Node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035680" y="4793760"/>
            <a:ext cx="44424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2880" y="480060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73960" y="49593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9040" y="49593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73960" y="52642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9040" y="52642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73960" y="5568840"/>
            <a:ext cx="7491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9040" y="5568840"/>
            <a:ext cx="2923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73960" y="587376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9040" y="587376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73960" y="6178680"/>
            <a:ext cx="7491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9040" y="6178680"/>
            <a:ext cx="2923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40240" y="4519440"/>
            <a:ext cx="1115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ast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 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483240" y="4794120"/>
            <a:ext cx="444600" cy="12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044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9080" y="4191120"/>
            <a:ext cx="350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 Look up “/usr/ast/m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0600" y="6032520"/>
            <a:ext cx="1575000" cy="584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 in UNIX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y entries are 16 bytes lo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 number indexes to other I-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-Nodes index to sub-directorie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3560" y="374004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1440" y="43498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3560" y="4349880"/>
            <a:ext cx="21600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35680" y="4349880"/>
            <a:ext cx="215640" cy="2156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9680" y="4959360"/>
            <a:ext cx="21564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1440" y="49593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0040" y="4965840"/>
            <a:ext cx="203040" cy="20304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0920" y="4965840"/>
            <a:ext cx="203040" cy="203040"/>
          </a:xfrm>
          <a:prstGeom prst="rect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6560" y="4959360"/>
            <a:ext cx="216000" cy="2160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21080" y="57214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8280" y="5721480"/>
            <a:ext cx="21564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828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00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49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70480" y="5727600"/>
            <a:ext cx="203040" cy="2034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8304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79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45160" y="5721480"/>
            <a:ext cx="216000" cy="2156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664080" y="3956040"/>
            <a:ext cx="6728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25840" y="3968640"/>
            <a:ext cx="6732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1560" y="3968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01960" y="4565520"/>
            <a:ext cx="67320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64080" y="4578480"/>
            <a:ext cx="672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4578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743360" y="4578480"/>
            <a:ext cx="3938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2400" y="45784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660760" y="5187960"/>
            <a:ext cx="1648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42216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18428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327280" y="5187960"/>
            <a:ext cx="16524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59400" y="5194440"/>
            <a:ext cx="1778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0196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408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2320" y="5194440"/>
            <a:ext cx="12708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708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8840" y="5187960"/>
            <a:ext cx="1396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800" y="6051600"/>
            <a:ext cx="182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il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single file to appear in multiple 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s are called lin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ees become “Directed Acyclic Graphs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ended blocks may only appear in the owner’s directory structur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 1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eate a small data structure associated with each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res block numbers in the structure, not the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y result in accesses to invalid I-nod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 2: Symbolic Link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the same path and filename, but of file type “Link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a non-owner accesses the filename, the O/S reads via the link to the original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quires overhead to store and follow path to original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Space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al Strateg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ecutive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owth forces Mo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rowth does not force Mo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ing Track of Free Blo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Quota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to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r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ylind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ge Siz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51440" y="1917720"/>
            <a:ext cx="4165560" cy="4165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7240" y="2063880"/>
            <a:ext cx="3873600" cy="3873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9880" y="2216160"/>
            <a:ext cx="3568680" cy="3568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02160" y="2368440"/>
            <a:ext cx="3263760" cy="326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54440" y="2521080"/>
            <a:ext cx="2959200" cy="295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7080" y="2673360"/>
            <a:ext cx="2654280" cy="265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9360" y="2825640"/>
            <a:ext cx="2349360" cy="234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11640" y="2978280"/>
            <a:ext cx="2044800" cy="20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64280" y="3130560"/>
            <a:ext cx="1739880" cy="1739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6560" y="3282840"/>
            <a:ext cx="1434960" cy="143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22640" y="3517920"/>
            <a:ext cx="1955520" cy="685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 rot="10800000">
            <a:off x="5879160" y="1916640"/>
            <a:ext cx="507960" cy="1498680"/>
          </a:xfrm>
          <a:custGeom>
            <a:avLst/>
            <a:gdLst>
              <a:gd name="textAreaLeft" fmla="*/ 111600 w 507960"/>
              <a:gd name="textAreaRight" fmla="*/ 396360 w 507960"/>
              <a:gd name="textAreaTop" fmla="*/ 329400 h 1498680"/>
              <a:gd name="textAreaBottom" fmla="*/ 1169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 rot="9180000">
            <a:off x="5256720" y="2055600"/>
            <a:ext cx="507960" cy="1499400"/>
          </a:xfrm>
          <a:custGeom>
            <a:avLst/>
            <a:gdLst>
              <a:gd name="textAreaLeft" fmla="*/ 111600 w 507960"/>
              <a:gd name="textAreaRight" fmla="*/ 396360 w 507960"/>
              <a:gd name="textAreaTop" fmla="*/ 329760 h 1499400"/>
              <a:gd name="textAreaBottom" fmla="*/ 1169640 h 149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 rot="7740000">
            <a:off x="4812120" y="2450520"/>
            <a:ext cx="508320" cy="1498680"/>
          </a:xfrm>
          <a:custGeom>
            <a:avLst/>
            <a:gdLst>
              <a:gd name="textAreaLeft" fmla="*/ 111600 w 508320"/>
              <a:gd name="textAreaRight" fmla="*/ 396720 w 508320"/>
              <a:gd name="textAreaTop" fmla="*/ 329400 h 1498680"/>
              <a:gd name="textAreaBottom" fmla="*/ 116928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c0fef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298600" y="2882880"/>
            <a:ext cx="2032200" cy="177840"/>
          </a:xfrm>
          <a:prstGeom prst="line">
            <a:avLst/>
          </a:prstGeom>
          <a:ln w="255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98600" y="2196720"/>
            <a:ext cx="2641680" cy="863640"/>
          </a:xfrm>
          <a:prstGeom prst="line">
            <a:avLst/>
          </a:prstGeom>
          <a:ln w="255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429000"/>
            <a:ext cx="1143000" cy="114300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36840" y="274320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36840" y="350532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36840" y="426708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36840" y="5029200"/>
            <a:ext cx="12672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80440" y="274320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80440" y="350532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80440" y="426708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80440" y="5029200"/>
            <a:ext cx="12672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2451240"/>
            <a:ext cx="0" cy="33271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36840" y="5791320"/>
            <a:ext cx="6070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2527200"/>
            <a:ext cx="0" cy="325116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0800" y="5727600"/>
            <a:ext cx="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15200" y="5715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4182120" y="-4254480"/>
            <a:ext cx="12021480" cy="988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38" y="15257"/>
                </a:moveTo>
                <a:arcTo wR="10800" hR="10800" stAng="1462353" swAng="3937647"/>
                <a:lnTo>
                  <a:pt x="10800" y="10800"/>
                </a:lnTo>
                <a:close/>
              </a:path>
              <a:path fill="none" w="21600" h="21600">
                <a:moveTo>
                  <a:pt x="20638" y="15257"/>
                </a:moveTo>
                <a:arcTo wR="10800" hR="10800" stAng="1462353" swAng="3937647"/>
              </a:path>
            </a:pathLst>
          </a:custGeom>
          <a:noFill/>
          <a:ln cap="rnd"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28480" y="-5626080"/>
            <a:ext cx="6375960" cy="1125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66499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664997"/>
              </a:path>
            </a:pathLst>
          </a:custGeom>
          <a:noFill/>
          <a:ln cap="rnd" w="25560">
            <a:solidFill>
              <a:srgbClr val="cc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41400" y="2743200"/>
            <a:ext cx="2641680" cy="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6920" y="2546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6920" y="33084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16920" y="407052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400" y="48322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2280" y="2546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11480" y="33084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11480" y="407052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11480" y="48322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152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296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4040" y="58230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149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293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37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58160" y="582300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3240" y="6203880"/>
            <a:ext cx="222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Size (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-466200" y="3532320"/>
            <a:ext cx="237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ata Rate (KB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6930360" y="3763800"/>
            <a:ext cx="29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isk Utilization (perc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120" y="1555920"/>
            <a:ext cx="417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all files consist of 1K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inked Lis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art with a “Free”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entry points to a “free” block on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th a 16-bit list entry, a 1K block holds 512 ent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th 1024 blocks per MB, need 2 blocks per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it Map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n blocks, build a map containing n bi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bit is set when corresponding block is fre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ssuming 1K block size, need 1024 bits per M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ffer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ee” list shrinks as blocks are us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t maps don’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Tim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mem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 Addr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s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agement media: 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49480" y="3511440"/>
            <a:ext cx="196848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urier New"/>
              </a:rPr>
              <a:t>disk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uid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Quota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9480" y="4730760"/>
            <a:ext cx="19684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k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d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ota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82564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282564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95840" y="3156120"/>
            <a:ext cx="207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le”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6560" y="3435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oft Block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6560" y="3664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ard Block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6560" y="38926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urrent # of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6560" y="4121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lock Warning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6560" y="4349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oft File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6560" y="4578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ard File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6560" y="4807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urrent # of Fi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6560" y="50356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le Warning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130560" y="3498480"/>
            <a:ext cx="227340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6560" y="5264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6560" y="5492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6560" y="57214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6560" y="59500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29782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3206880"/>
            <a:ext cx="26542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2755800"/>
            <a:ext cx="0" cy="386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320" y="2603520"/>
            <a:ext cx="0" cy="393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23040" y="5257800"/>
            <a:ext cx="264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23040" y="3429000"/>
            <a:ext cx="264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71960" y="2622600"/>
            <a:ext cx="166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a”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Administrator assigns maximum space per us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perating System enforces the quota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Re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ncep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osing a file also losses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system helps protect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d Block Manag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acku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Consistenc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Block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manufacturers cannot guarantee 100% defect free on 100% of all dis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s become unreliable with u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Hardware 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d” Block List maintained on each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ftware 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d” Block File created to isolate bloc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es bad blocks from “Free”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atch out during disk back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sk Dum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Cop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kay for flopp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pe Backu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low and include “Bad” block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movable Hard Dri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quest, Zip, Jazz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cremental Dump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Files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ied Files On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ull Dumps period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rchive B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 when a file is modifi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et when a file is backed 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Consist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stem crashes in the middle of a write operation leave files in an unstable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olution: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Consistency Che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1: Block is allocated to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2: Block is listed as “Free”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Consistency Che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1: I-Node is pointed to by Directori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ounter 2: Link counts stored in the I-Nod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606680" y="23623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66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9112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161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10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25640" y="2673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305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354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400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449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9880" y="2673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544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93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42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88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73760" y="2673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86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83240" y="2673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8816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2673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97640" y="2673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066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112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161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210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25640" y="3816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305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354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400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449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9880" y="3816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544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93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642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88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73760" y="3816360"/>
            <a:ext cx="29196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86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83240" y="3816360"/>
            <a:ext cx="29232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8816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93080" y="3816360"/>
            <a:ext cx="291960" cy="291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97640" y="3816360"/>
            <a:ext cx="292320" cy="291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62260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9480" y="376560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77200" y="2165400"/>
            <a:ext cx="932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2920" y="4737240"/>
            <a:ext cx="808200" cy="424800"/>
          </a:xfrm>
          <a:prstGeom prst="roundRect">
            <a:avLst>
              <a:gd name="adj" fmla="val 12495"/>
            </a:avLst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752480" y="4107960"/>
            <a:ext cx="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758960" y="4107960"/>
            <a:ext cx="2919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758960" y="4107960"/>
            <a:ext cx="5205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09640" y="4952880"/>
            <a:ext cx="118260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i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964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57120" y="4952880"/>
            <a:ext cx="153756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Free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448920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4160" y="4952880"/>
            <a:ext cx="155304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Data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1308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81200" y="4952880"/>
            <a:ext cx="1382040" cy="753480"/>
          </a:xfrm>
          <a:prstGeom prst="roundRect">
            <a:avLst>
              <a:gd name="adj" fmla="val 12495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L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7536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Consistency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606680" y="23623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066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112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161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210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256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305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354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400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9880" y="2673360"/>
            <a:ext cx="29196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544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93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642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88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786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83240" y="2673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881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9308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7640" y="2673360"/>
            <a:ext cx="29232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66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112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161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210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305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354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400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9880" y="3816360"/>
            <a:ext cx="29196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544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93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642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688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86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83240" y="3816360"/>
            <a:ext cx="29232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881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97640" y="3816360"/>
            <a:ext cx="292320" cy="2919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" y="2470320"/>
            <a:ext cx="1202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160" y="3765600"/>
            <a:ext cx="1527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ink 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7720" y="2165400"/>
            <a:ext cx="107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-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4737240"/>
            <a:ext cx="808200" cy="424800"/>
          </a:xfrm>
          <a:prstGeom prst="roundRect">
            <a:avLst>
              <a:gd name="adj" fmla="val 12495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k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752480" y="4107960"/>
            <a:ext cx="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758960" y="4107960"/>
            <a:ext cx="2919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8960" y="4107960"/>
            <a:ext cx="52056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3280" y="4952880"/>
            <a:ext cx="1423440" cy="753480"/>
          </a:xfrm>
          <a:prstGeom prst="roundRect">
            <a:avLst>
              <a:gd name="adj" fmla="val 12495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o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448920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39160" y="4952880"/>
            <a:ext cx="1267920" cy="753480"/>
          </a:xfrm>
          <a:prstGeom prst="roundRect">
            <a:avLst>
              <a:gd name="adj" fmla="val 12495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oo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F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7536960" y="4108320"/>
            <a:ext cx="88920" cy="85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449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449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873760" y="2673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73760" y="3816360"/>
            <a:ext cx="291960" cy="2919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Consistency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ble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M access takes ~100 nanose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access takes ~100 millise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1: Cach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M is used to buffer disk ac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ffers store blocks of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 replacement uses same algorithms as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che references less frequent than with Pag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rawb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crashes impact more than one file or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blocks are rarely referenc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Replac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djust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the block likely to be needed again soon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the block essential for consistency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needed blocks go to the head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y are reused fir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 needed soon go to the tail of the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ey are reused las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cks affecting consistency get written to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 blocks get written to disk periodic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NIX: “Sync” system call every 30 second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OS: Write modified blocks immediatel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rite-Through Cache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2: Reduce Disk Arm Mo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 sequential blocks to same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t Map block management faster than Linked Lis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prove Linked Lists by allocating Clus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3: Rotational Position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leave sequential blocks depending on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Disk rotational period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16 mse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User request turnaround time: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4 msec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.g. Next block is one cylinder away, but a quarter the way aroun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mprovement #4: I-Node Place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rmal: I-Nodes at start of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ter: I-Nodes in the middle of the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vantage: Reduces average seek time to next cylinde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roduction to Proces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activity of some ki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, Input, Output,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terprocess Communication (IPC)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sy Wait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leep &amp; Wake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aphores, Counters, Monitors, Messag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lassical IPC Proble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ce conditions are Ba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tual Exclusion prevents race cond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cess Schedul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 CPU time equitably, but according to prior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Security Environmen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mous Security Flaw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The Internet Wor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Generic Security Attac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on Approa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ru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sign Principles for 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ser Authent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hysical Identific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ntermeas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curity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modification by unauthorized Pers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event modification by unauthorized Proce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/S mechanisms to safeguard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acet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Lo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s of Go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ystem Malfunc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uman Erro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rud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assiv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ctive or Maliciou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vacy: protecting individual righ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ous Security Fla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pr -r printed a file, then removed it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ttack the password fi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verwrite the password file using a core dum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cept mkdir just before the chown comma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ypass security protoco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tch file into the victim direct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y a tool -- Trojan Hor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security feedback to help identify password let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fere with password checking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fter confirmation, but before retrieval, overwrite a verified filename with the victim’s filenam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et W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lf-Replicating Program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ootstrap program:  “l1.c”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orm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Approach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nd the bootstrap ahead and run 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ave the bootstrap go back and get the Wor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Worm would try to break user 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op the Worm if one was already pres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Infection Metho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un a remote shel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oit the finger daem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sendmail to pass the bootstrap routi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Security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mon Approach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d core dum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llegal system calls or parame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rupt the login sequ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ify complex O/S structur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oof the user by using a phony login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ecute somebody else’s prototype c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ild in a trapdo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ick the director’s secreta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ood security pract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Security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irus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fragment attached to legitimate progra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gment runs first when legitimate program execu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ds uninfected program and attaches itself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ympto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Erase, corrupt, or encrypt fil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l-up disk space or RAM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hange the display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29360" indent="-1742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event normal oper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67760" indent="-1677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ean infected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format the dis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checksu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43160" indent="-1630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rite protect binary fi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inciples for 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ake the design available to the public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efault state should prevent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eck for current permiss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simply once at the beginn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Least privilege possibl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 should be built-i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 add-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Keep it simple for legitimate user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asswor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sy to impl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sy to defe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riations on Password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andomly selected character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lting the password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uter generated advice (e.g. “fotally”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nge frequent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-Time passwor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generated test ques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allenge-Response algorith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hysical Identific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ngerprints, Finger Length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oicepri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gnature Analysi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tinal Sca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untermeasur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trict the user to a terminal, time, or da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mmediate call-back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 all login attemp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ited Tra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onitor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equent disk search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r profil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Domai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 set of (object, rights) pair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ach process runs in a protection doma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cesses can switch domai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be in two domains at o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ared peripherals can be written t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ut not read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pplication: Multiple security leve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Government, Banking, Insuranc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advantage: 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ile duplication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Protection matrices are spars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chemes must also be implemented by tool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emory Management 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rganized by Addresse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noprogramming versus Multiprogramm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wapping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ve Processes from e Memory to Disk &amp; Back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xed Partitions versus Variabl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t Maps, Linked Lists, Buddy Syste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Virtual Memory (i.e. Paging)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llows process size to exceed physical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ges, Frames, Page Tables, Page Faults, Associative Memory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Page Replacement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timal, NRU, FIFO, 2nd Chance, Clock, LRU, NFU, Aging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Modeling Paging Algorith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elady’s Anomaly, Stack Algorithms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Design Issues for Paging Systems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85000"/>
              </a:lnSpc>
              <a:spcBef>
                <a:spcPts val="125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orking Set, Local/Global, Page Size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85000"/>
              </a:lnSpc>
              <a:spcBef>
                <a:spcPts val="1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Segmentation</a:t>
            </a:r>
            <a:endParaRPr b="1" i="1" lang="en-US" sz="2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1378080" y="2438280"/>
            <a:ext cx="760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5080" y="313056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5080" y="351144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5080" y="389268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5080" y="427356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5080" y="465444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5080" y="5035680"/>
            <a:ext cx="113004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8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39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01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4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25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7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50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11840" y="2749680"/>
            <a:ext cx="74952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3608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73960" y="27496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78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39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01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64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5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87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50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11840" y="3130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3608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73960" y="3130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78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9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01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64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25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87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0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511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3608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73960" y="3511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8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9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01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25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7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50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11840" y="3892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23608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73960" y="3892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78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9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01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64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25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7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50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11840" y="427356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23608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73960" y="427356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39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01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64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25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87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50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11840" y="465444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23608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73960" y="465444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78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39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01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4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25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87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0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11840" y="5035680"/>
            <a:ext cx="7495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3608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73960" y="5035680"/>
            <a:ext cx="7491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2160" y="2774880"/>
            <a:ext cx="118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77880" y="2241720"/>
            <a:ext cx="10454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Dom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umn by Colum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ows which domains have “access” to each objec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73160" y="2521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73160" y="2901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3160" y="3282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73160" y="3664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73160" y="4044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3160" y="4425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73160" y="4807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73160" y="518796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160" y="556884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3528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2901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35280" y="5568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3528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35280" y="3664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35280" y="4044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35280" y="4425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35280" y="5187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916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359160" y="404496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9160" y="4425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35280" y="4807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5916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8304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83040" y="2521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07280" y="328284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9160" y="4807080"/>
            <a:ext cx="1511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73160" y="5950080"/>
            <a:ext cx="749160" cy="368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w by R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90000"/>
              </a:lnSpc>
              <a:spcBef>
                <a:spcPts val="3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ows which objects can be “accessed” by a domai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01760" y="297828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01760" y="335916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n,s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01760" y="374004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s,s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01760" y="412128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ik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01760" y="450216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,s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301760" y="4883040"/>
            <a:ext cx="1130400" cy="3682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elle,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44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87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1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30760" y="2978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2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44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7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3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30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3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016760" y="3359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1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44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87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4, rw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0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1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3760" y="3740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44760" y="412128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4760" y="450216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44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0,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7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2,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30760" y="4883040"/>
            <a:ext cx="11304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t2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bilities Control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od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imitives can be combined into comman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reate or Delete a domain, an object, or a right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ands must not allow an unauthorized st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ficult to Prov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0">
              <a:lnSpc>
                <a:spcPct val="85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vert Channel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covering information by indirect mea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CPU usag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the page fault ra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nitoring peripheral acces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, Directories, and Disk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aming, Structures, Types, Attributes,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Hierarchical, Path Names, Operation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ystem Implementa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iguous, Linked List, I-Nod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sk Space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lock Size, Free Blocks, Bad Blocks, Disk Quota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istency Check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77160" indent="-1616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ache, Disk Control &amp; Format choice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Security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ata Loss, Intruders, Privacy, Viruses, Wor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55880" indent="-15588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Protection Mechanism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11480" indent="-15156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main Control Tabl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Naming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Structur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Typ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s Acces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Attribut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File Operation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Memory Mapped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Na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omposition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S: 8 digit name, 3 digit extens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IX: distinguishes between upper &amp; lower ca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C: “long” file nam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Extensions 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ically mean special type of fil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More to remind the user than the computer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ilers may require specific extens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C compiler convention 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lename.c” for input 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lvl="3" marL="1025640" indent="-166680">
              <a:lnSpc>
                <a:spcPct val="85000"/>
              </a:lnSpc>
              <a:spcBef>
                <a:spcPts val="113"/>
              </a:spcBef>
              <a:buClr>
                <a:srgbClr val="006600"/>
              </a:buClr>
              <a:buFont typeface="Arial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lename.o” for output</a:t>
            </a: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Unstructured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is simply a sequence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maximum flexibil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tool complexit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DOS and UNIX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rd Sequenc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le partitioned into fixed number of byt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699480" indent="-167040">
              <a:lnSpc>
                <a:spcPct val="7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Read/Write on a single record rather than entir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Not suited for CRT terminal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Early card readers and CP/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60920" indent="-160920">
              <a:lnSpc>
                <a:spcPct val="7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cord Tree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s of different length have a key fiel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cords are sorted along the key fiel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Allows rapid search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sadvantag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Overhead of key manag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425160" indent="-156600">
              <a:lnSpc>
                <a:spcPct val="75000"/>
              </a:lnSpc>
              <a:spcBef>
                <a:spcPts val="150"/>
              </a:spcBef>
              <a:buClr>
                <a:srgbClr val="0066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 Mainframe commercial data proc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21440" y="36000"/>
            <a:ext cx="7687800" cy="91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Regular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User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ASCII Text: Can be displayed and printed as is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744480" indent="-177840">
              <a:lnSpc>
                <a:spcPct val="85000"/>
              </a:lnSpc>
              <a:spcBef>
                <a:spcPts val="125"/>
              </a:spcBef>
              <a:buClr>
                <a:srgbClr val="cc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inary: An Executable or Archive file</a:t>
            </a:r>
            <a:endParaRPr b="1" i="1" lang="en-US" sz="2000" spc="-1" strike="noStrike">
              <a:solidFill>
                <a:srgbClr val="cc0000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Directori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 file system structure inform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Character Special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 serial I/O devi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71360" indent="-171360">
              <a:lnSpc>
                <a:spcPct val="85000"/>
              </a:lnSpc>
              <a:spcBef>
                <a:spcPts val="176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Block Special Files</a:t>
            </a:r>
            <a:endParaRPr b="1" i="1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452520" indent="-166680">
              <a:lnSpc>
                <a:spcPct val="85000"/>
              </a:lnSpc>
              <a:spcBef>
                <a:spcPts val="150"/>
              </a:spcBef>
              <a:buClr>
                <a:srgbClr val="0000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odel disk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2T21:41:18Z</dcterms:created>
  <dc:creator>Dean Hipwell</dc:creator>
  <dc:description/>
  <dc:language>en-US</dc:language>
  <cp:lastModifiedBy>hipwelld</cp:lastModifiedBy>
  <cp:lastPrinted>1996-08-14T05:33:32Z</cp:lastPrinted>
  <dcterms:modified xsi:type="dcterms:W3CDTF">2001-01-15T19:03:53Z</dcterms:modified>
  <cp:revision>35</cp:revision>
  <dc:subject>CST400 - Operating System Theory &amp; Design</dc:subject>
  <dc:title>Chap 4 - File Systems</dc:title>
</cp:coreProperties>
</file>