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AA8FB8E6-1689-4FE6-9B3D-CBAECB21C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7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ist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 Oper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undamental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 &amp; Outpu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DP-11 UNI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ortable UNI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erkeley UNI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tandard UNI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pen Software Found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Ope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IX Go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fa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gging-I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UNIX Shel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s and Director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tility Progra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 in UNI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 &amp; Outpu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and Directory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/O System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wapp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Page Replacement Algorith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aditional UNI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rkeley Fast File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/O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ist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 Oper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undamental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ystem Cal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2T23:06:10Z</dcterms:created>
  <dc:creator>Dean Hipwell</dc:creator>
  <dc:description/>
  <dc:language>en-US</dc:language>
  <cp:lastModifiedBy>hipwelld</cp:lastModifiedBy>
  <dcterms:modified xsi:type="dcterms:W3CDTF">2001-01-15T19:03:44Z</dcterms:modified>
  <cp:revision>4</cp:revision>
  <dc:subject>CST400 - Operating System Theory &amp; Design</dc:subject>
  <dc:title>Chap 7 - UNIX</dc:title>
</cp:coreProperties>
</file>