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1440" y="36000"/>
            <a:ext cx="7687800" cy="425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76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76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3" marL="1025640" indent="-166680">
              <a:lnSpc>
                <a:spcPct val="85000"/>
              </a:lnSpc>
              <a:spcBef>
                <a:spcPts val="176"/>
              </a:spcBef>
              <a:buClr>
                <a:srgbClr val="006600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4" marL="1319040" indent="-179280">
              <a:lnSpc>
                <a:spcPct val="85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5" marL="1319040" indent="-179280">
              <a:lnSpc>
                <a:spcPct val="85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6" marL="1319040" indent="-179280">
              <a:lnSpc>
                <a:spcPct val="85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2503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ST400 - Operating System Theory &amp; 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35800" y="6629400"/>
            <a:ext cx="792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:  </a:t>
            </a:r>
            <a:fld id="{65797513-ED33-4787-B9EC-A878FEDFE2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561440" y="6629400"/>
            <a:ext cx="820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400c11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27560" y="2327400"/>
            <a:ext cx="7688880" cy="10594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pter 11: Synchronization in Distributed Syst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1522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ional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cram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62320" y="1447920"/>
            <a:ext cx="4419360" cy="609480"/>
          </a:xfrm>
          <a:prstGeom prst="roundRect">
            <a:avLst>
              <a:gd name="adj" fmla="val 12495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ST400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perating Systems Theory &amp;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71600" y="5029200"/>
            <a:ext cx="6400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apted fr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rew S. Tanenbaum. “Modern Operating Systems”. Prentice-Hall. 199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lnSpc>
                <a:spcPct val="8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prepared by</a:t>
            </a:r>
            <a:endParaRPr b="1" i="1" lang="en-US" sz="2400" spc="-1" strike="noStrike">
              <a:solidFill>
                <a:srgbClr val="6633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Dean Hipwell</a:t>
            </a:r>
            <a:endParaRPr b="1" i="1" lang="en-US" sz="24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727600" y="3359160"/>
            <a:ext cx="596880" cy="5968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946920" y="4578480"/>
            <a:ext cx="596880" cy="5968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166240" y="3359160"/>
            <a:ext cx="596880" cy="5968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108840" y="2521080"/>
            <a:ext cx="596880" cy="5968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08840" y="4197240"/>
            <a:ext cx="596880" cy="5968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785000" y="2521080"/>
            <a:ext cx="596880" cy="5968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804080" y="4216320"/>
            <a:ext cx="558720" cy="558720"/>
          </a:xfrm>
          <a:prstGeom prst="ellipse">
            <a:avLst/>
          </a:prstGeom>
          <a:solidFill>
            <a:srgbClr val="cc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946920" y="2139840"/>
            <a:ext cx="596880" cy="5968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7467120" y="4502160"/>
            <a:ext cx="241560" cy="1396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705360" y="4349880"/>
            <a:ext cx="927000" cy="1396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6324480" y="3727080"/>
            <a:ext cx="1384560" cy="469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lly Algorith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ssum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ocess “7” is coordinato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The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ocess “7” crash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ocess “3” is first to notic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3” sends election messag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4, 5, and 6 respond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3” is now out of the running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114960" y="2527200"/>
            <a:ext cx="660600" cy="584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089760" y="2451240"/>
            <a:ext cx="635040" cy="66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5727600" y="3359160"/>
            <a:ext cx="596880" cy="5968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946920" y="4578480"/>
            <a:ext cx="596880" cy="5968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166240" y="3359160"/>
            <a:ext cx="596880" cy="5968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108840" y="2521080"/>
            <a:ext cx="596880" cy="5968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08840" y="4197240"/>
            <a:ext cx="596880" cy="5968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785000" y="2521080"/>
            <a:ext cx="596880" cy="5968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785000" y="4197240"/>
            <a:ext cx="596880" cy="5968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46920" y="2139840"/>
            <a:ext cx="596880" cy="5968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18320" y="4578480"/>
            <a:ext cx="291960" cy="1396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184800" y="3968640"/>
            <a:ext cx="139680" cy="216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6248520" y="3130560"/>
            <a:ext cx="164880" cy="2919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66040" y="3130560"/>
            <a:ext cx="520560" cy="1511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3240" y="3130560"/>
            <a:ext cx="0" cy="10540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337440" y="3816360"/>
            <a:ext cx="672840" cy="8254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lly Algorith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ssum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ocess “7” is coordinato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The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ocess “7” crash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ocess “3” is first to notic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3” sends election messag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4, 5, and 6 respond meaning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3” is now out of the running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4, 5, and 6 now hold election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114960" y="2527200"/>
            <a:ext cx="660600" cy="584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6089760" y="2451240"/>
            <a:ext cx="635040" cy="66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5746680" y="3378240"/>
            <a:ext cx="558720" cy="558720"/>
          </a:xfrm>
          <a:prstGeom prst="ellipse">
            <a:avLst/>
          </a:prstGeom>
          <a:solidFill>
            <a:srgbClr val="cc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946920" y="4578480"/>
            <a:ext cx="596880" cy="5968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66240" y="3359160"/>
            <a:ext cx="596880" cy="5968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108840" y="2521080"/>
            <a:ext cx="596880" cy="5968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08840" y="4197240"/>
            <a:ext cx="596880" cy="5968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785000" y="2521080"/>
            <a:ext cx="596880" cy="5968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785000" y="4197240"/>
            <a:ext cx="596880" cy="5968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946920" y="2139840"/>
            <a:ext cx="596880" cy="5968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718320" y="4578480"/>
            <a:ext cx="291960" cy="139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184800" y="3968640"/>
            <a:ext cx="139680" cy="21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337440" y="3816360"/>
            <a:ext cx="672840" cy="825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lly Algorith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ssum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ocess “7” is coordinato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The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ocess “7” crash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ocess “3” is first to notic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3” sends election messag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4, 5, and 6 respond meaning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3” is now out of the running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4, 5, and 6 now hold election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6” declares itself the winne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and becomes the new coordinator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14960" y="2527200"/>
            <a:ext cx="660600" cy="584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6089760" y="2451240"/>
            <a:ext cx="635040" cy="66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5727600" y="3359160"/>
            <a:ext cx="596880" cy="596880"/>
          </a:xfrm>
          <a:prstGeom prst="ellipse">
            <a:avLst/>
          </a:prstGeom>
          <a:solidFill>
            <a:srgbClr val="ffcc99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946920" y="4578480"/>
            <a:ext cx="596880" cy="596880"/>
          </a:xfrm>
          <a:prstGeom prst="ellipse">
            <a:avLst/>
          </a:prstGeom>
          <a:solidFill>
            <a:srgbClr val="ffcc99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166240" y="3359160"/>
            <a:ext cx="596880" cy="596880"/>
          </a:xfrm>
          <a:prstGeom prst="ellipse">
            <a:avLst/>
          </a:prstGeom>
          <a:solidFill>
            <a:srgbClr val="ffcc99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108840" y="4197240"/>
            <a:ext cx="596880" cy="596880"/>
          </a:xfrm>
          <a:prstGeom prst="ellipse">
            <a:avLst/>
          </a:prstGeom>
          <a:solidFill>
            <a:srgbClr val="ffcc99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785000" y="2521080"/>
            <a:ext cx="596880" cy="596880"/>
          </a:xfrm>
          <a:prstGeom prst="ellipse">
            <a:avLst/>
          </a:prstGeom>
          <a:solidFill>
            <a:srgbClr val="ffcc99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85000" y="4197240"/>
            <a:ext cx="596880" cy="596880"/>
          </a:xfrm>
          <a:prstGeom prst="ellipse">
            <a:avLst/>
          </a:prstGeom>
          <a:solidFill>
            <a:srgbClr val="ffcc99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08840" y="2521080"/>
            <a:ext cx="596880" cy="596880"/>
          </a:xfrm>
          <a:prstGeom prst="ellipse">
            <a:avLst/>
          </a:prstGeom>
          <a:solidFill>
            <a:srgbClr val="ffcc99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946920" y="2139840"/>
            <a:ext cx="596880" cy="596880"/>
          </a:xfrm>
          <a:prstGeom prst="ellipse">
            <a:avLst/>
          </a:prstGeom>
          <a:solidFill>
            <a:srgbClr val="ffcc99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ing Algorith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ssum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ocess “7” is coordinato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The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ocess “7” crash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114960" y="2527200"/>
            <a:ext cx="660600" cy="584280"/>
          </a:xfrm>
          <a:prstGeom prst="line">
            <a:avLst/>
          </a:prstGeom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6089760" y="2451240"/>
            <a:ext cx="635040" cy="660240"/>
          </a:xfrm>
          <a:prstGeom prst="line">
            <a:avLst/>
          </a:prstGeom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5727600" y="3359160"/>
            <a:ext cx="596880" cy="596880"/>
          </a:xfrm>
          <a:prstGeom prst="ellipse">
            <a:avLst/>
          </a:prstGeom>
          <a:solidFill>
            <a:srgbClr val="ffcc99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946920" y="4578480"/>
            <a:ext cx="596880" cy="596880"/>
          </a:xfrm>
          <a:prstGeom prst="ellipse">
            <a:avLst/>
          </a:prstGeom>
          <a:solidFill>
            <a:srgbClr val="ffcc99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166240" y="3359160"/>
            <a:ext cx="596880" cy="596880"/>
          </a:xfrm>
          <a:prstGeom prst="ellipse">
            <a:avLst/>
          </a:prstGeom>
          <a:solidFill>
            <a:srgbClr val="ffcc99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08840" y="4197240"/>
            <a:ext cx="596880" cy="596880"/>
          </a:xfrm>
          <a:prstGeom prst="ellipse">
            <a:avLst/>
          </a:prstGeom>
          <a:solidFill>
            <a:srgbClr val="ffcc99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785000" y="2521080"/>
            <a:ext cx="596880" cy="596880"/>
          </a:xfrm>
          <a:prstGeom prst="ellipse">
            <a:avLst/>
          </a:prstGeom>
          <a:solidFill>
            <a:srgbClr val="ffcc99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804080" y="4216320"/>
            <a:ext cx="558720" cy="558720"/>
          </a:xfrm>
          <a:prstGeom prst="ellipse">
            <a:avLst/>
          </a:prstGeom>
          <a:solidFill>
            <a:srgbClr val="ffcc99"/>
          </a:solidFill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 flipV="1">
            <a:off x="6553080" y="3117960"/>
            <a:ext cx="1308240" cy="1155600"/>
          </a:xfrm>
          <a:prstGeom prst="line">
            <a:avLst/>
          </a:prstGeom>
          <a:ln w="1260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08840" y="2521080"/>
            <a:ext cx="596880" cy="596880"/>
          </a:xfrm>
          <a:prstGeom prst="ellipse">
            <a:avLst/>
          </a:prstGeom>
          <a:solidFill>
            <a:srgbClr val="ffcc99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946920" y="2139840"/>
            <a:ext cx="596880" cy="596880"/>
          </a:xfrm>
          <a:prstGeom prst="ellipse">
            <a:avLst/>
          </a:prstGeom>
          <a:solidFill>
            <a:srgbClr val="ffcc99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ing Algorith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ssum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ocess “7” is coordinato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The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ocess “7” crash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ocess “3” is first to notic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114960" y="2527200"/>
            <a:ext cx="660600" cy="584280"/>
          </a:xfrm>
          <a:prstGeom prst="line">
            <a:avLst/>
          </a:prstGeom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6089760" y="2451240"/>
            <a:ext cx="635040" cy="660240"/>
          </a:xfrm>
          <a:prstGeom prst="line">
            <a:avLst/>
          </a:prstGeom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5727600" y="3359160"/>
            <a:ext cx="596880" cy="596880"/>
          </a:xfrm>
          <a:prstGeom prst="ellipse">
            <a:avLst/>
          </a:prstGeom>
          <a:solidFill>
            <a:srgbClr val="ffcc99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946920" y="4578480"/>
            <a:ext cx="596880" cy="596880"/>
          </a:xfrm>
          <a:prstGeom prst="ellipse">
            <a:avLst/>
          </a:prstGeom>
          <a:solidFill>
            <a:srgbClr val="ffcc99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166240" y="3359160"/>
            <a:ext cx="596880" cy="596880"/>
          </a:xfrm>
          <a:prstGeom prst="ellipse">
            <a:avLst/>
          </a:prstGeom>
          <a:solidFill>
            <a:srgbClr val="ffcc99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108840" y="2521080"/>
            <a:ext cx="596880" cy="596880"/>
          </a:xfrm>
          <a:prstGeom prst="ellipse">
            <a:avLst/>
          </a:prstGeom>
          <a:solidFill>
            <a:srgbClr val="ffcc99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08840" y="4197240"/>
            <a:ext cx="596880" cy="596880"/>
          </a:xfrm>
          <a:prstGeom prst="ellipse">
            <a:avLst/>
          </a:prstGeom>
          <a:solidFill>
            <a:srgbClr val="ffcc99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785000" y="2521080"/>
            <a:ext cx="596880" cy="596880"/>
          </a:xfrm>
          <a:prstGeom prst="ellipse">
            <a:avLst/>
          </a:prstGeom>
          <a:solidFill>
            <a:srgbClr val="ffcc99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04080" y="4216320"/>
            <a:ext cx="558720" cy="558720"/>
          </a:xfrm>
          <a:prstGeom prst="ellipse">
            <a:avLst/>
          </a:prstGeom>
          <a:solidFill>
            <a:srgbClr val="ffcc99"/>
          </a:solidFill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946920" y="2139840"/>
            <a:ext cx="596880" cy="596880"/>
          </a:xfrm>
          <a:prstGeom prst="ellipse">
            <a:avLst/>
          </a:prstGeom>
          <a:solidFill>
            <a:srgbClr val="ffcc99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7543800" y="4654440"/>
            <a:ext cx="317520" cy="139680"/>
          </a:xfrm>
          <a:prstGeom prst="line">
            <a:avLst/>
          </a:prstGeom>
          <a:ln w="1260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6705720" y="4489560"/>
            <a:ext cx="317520" cy="164880"/>
          </a:xfrm>
          <a:prstGeom prst="line">
            <a:avLst/>
          </a:prstGeom>
          <a:ln w="1260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6248160" y="3879720"/>
            <a:ext cx="88920" cy="317520"/>
          </a:xfrm>
          <a:prstGeom prst="line">
            <a:avLst/>
          </a:prstGeom>
          <a:ln w="1260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261120" y="2736720"/>
            <a:ext cx="901800" cy="774720"/>
          </a:xfrm>
          <a:prstGeom prst="line">
            <a:avLst/>
          </a:prstGeom>
          <a:ln w="1260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709040" y="4959360"/>
            <a:ext cx="215640" cy="2919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489720" y="4959360"/>
            <a:ext cx="368280" cy="2919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3,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270400" y="4121280"/>
            <a:ext cx="596880" cy="2919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3,4,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ing Algorith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ssum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ocess “7” is coordinato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The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ocess “7” crash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ocess “3” is first to notic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3” sends election ballo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which is passed around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114960" y="2527200"/>
            <a:ext cx="660600" cy="584280"/>
          </a:xfrm>
          <a:prstGeom prst="line">
            <a:avLst/>
          </a:prstGeom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6089760" y="2451240"/>
            <a:ext cx="635040" cy="660240"/>
          </a:xfrm>
          <a:prstGeom prst="line">
            <a:avLst/>
          </a:prstGeom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ssum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ocess “7” is coordinato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The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ocess “7” crash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ocess “3” is first to notic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3” sends election ballo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which is passed around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When “3” gets ballot back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it selects the winner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114960" y="2527200"/>
            <a:ext cx="660600" cy="584280"/>
          </a:xfrm>
          <a:prstGeom prst="line">
            <a:avLst/>
          </a:prstGeom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6089760" y="2451240"/>
            <a:ext cx="635040" cy="660240"/>
          </a:xfrm>
          <a:prstGeom prst="line">
            <a:avLst/>
          </a:prstGeom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727600" y="3359160"/>
            <a:ext cx="596880" cy="596880"/>
          </a:xfrm>
          <a:prstGeom prst="ellipse">
            <a:avLst/>
          </a:prstGeom>
          <a:solidFill>
            <a:srgbClr val="ffcc99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946920" y="4578480"/>
            <a:ext cx="596880" cy="596880"/>
          </a:xfrm>
          <a:prstGeom prst="ellipse">
            <a:avLst/>
          </a:prstGeom>
          <a:solidFill>
            <a:srgbClr val="ffcc99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166240" y="3359160"/>
            <a:ext cx="596880" cy="596880"/>
          </a:xfrm>
          <a:prstGeom prst="ellipse">
            <a:avLst/>
          </a:prstGeom>
          <a:solidFill>
            <a:srgbClr val="ffcc99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08840" y="2521080"/>
            <a:ext cx="596880" cy="596880"/>
          </a:xfrm>
          <a:prstGeom prst="ellipse">
            <a:avLst/>
          </a:prstGeom>
          <a:solidFill>
            <a:srgbClr val="ffcc99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108840" y="4197240"/>
            <a:ext cx="596880" cy="596880"/>
          </a:xfrm>
          <a:prstGeom prst="ellipse">
            <a:avLst/>
          </a:prstGeom>
          <a:solidFill>
            <a:srgbClr val="ffcc99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785000" y="2521080"/>
            <a:ext cx="596880" cy="596880"/>
          </a:xfrm>
          <a:prstGeom prst="ellipse">
            <a:avLst/>
          </a:prstGeom>
          <a:solidFill>
            <a:srgbClr val="ffcc99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804080" y="4216320"/>
            <a:ext cx="558720" cy="558720"/>
          </a:xfrm>
          <a:prstGeom prst="ellipse">
            <a:avLst/>
          </a:prstGeom>
          <a:solidFill>
            <a:srgbClr val="ffcc99"/>
          </a:solidFill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946920" y="2139840"/>
            <a:ext cx="596880" cy="596880"/>
          </a:xfrm>
          <a:prstGeom prst="ellipse">
            <a:avLst/>
          </a:prstGeom>
          <a:solidFill>
            <a:srgbClr val="ffcc99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7543800" y="4654440"/>
            <a:ext cx="317520" cy="139680"/>
          </a:xfrm>
          <a:prstGeom prst="line">
            <a:avLst/>
          </a:prstGeom>
          <a:ln w="1260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705720" y="4489560"/>
            <a:ext cx="317520" cy="164880"/>
          </a:xfrm>
          <a:prstGeom prst="line">
            <a:avLst/>
          </a:prstGeom>
          <a:ln w="1260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 flipV="1">
            <a:off x="6248160" y="3879720"/>
            <a:ext cx="88920" cy="317520"/>
          </a:xfrm>
          <a:prstGeom prst="line">
            <a:avLst/>
          </a:prstGeom>
          <a:ln w="1260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6261120" y="2736720"/>
            <a:ext cx="901800" cy="774720"/>
          </a:xfrm>
          <a:prstGeom prst="line">
            <a:avLst/>
          </a:prstGeom>
          <a:ln w="1260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709040" y="4959360"/>
            <a:ext cx="215640" cy="2919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489720" y="4959360"/>
            <a:ext cx="368280" cy="2919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3,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423040" y="4121280"/>
            <a:ext cx="596880" cy="2919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3,4,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642000" y="3206880"/>
            <a:ext cx="825480" cy="2919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3,4,5,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556400" y="2063880"/>
            <a:ext cx="1054080" cy="2919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3,4,5,6,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556400" y="2597040"/>
            <a:ext cx="216000" cy="63720"/>
          </a:xfrm>
          <a:prstGeom prst="line">
            <a:avLst/>
          </a:prstGeom>
          <a:ln w="1260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166240" y="3130560"/>
            <a:ext cx="139680" cy="291960"/>
          </a:xfrm>
          <a:prstGeom prst="line">
            <a:avLst/>
          </a:prstGeom>
          <a:ln w="1260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8229240" y="3968640"/>
            <a:ext cx="88920" cy="292320"/>
          </a:xfrm>
          <a:prstGeom prst="line">
            <a:avLst/>
          </a:prstGeom>
          <a:ln w="1260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29600" y="3962520"/>
            <a:ext cx="901800" cy="6728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3,4,5,6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0,1,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007480" y="5568840"/>
            <a:ext cx="901440" cy="6732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6,5,4,3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2,1,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ing Algorith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ssum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ocess “7” is coordinato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The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ocess “7” crash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ocess “3” is first to notic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3” sends election ballo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which is passed around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When “3” gets ballot back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it selects the winner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3” passes the result around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and “6” becomes the coordinator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114960" y="2527200"/>
            <a:ext cx="660600" cy="584280"/>
          </a:xfrm>
          <a:prstGeom prst="line">
            <a:avLst/>
          </a:prstGeom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6089760" y="2451240"/>
            <a:ext cx="635040" cy="660240"/>
          </a:xfrm>
          <a:prstGeom prst="line">
            <a:avLst/>
          </a:prstGeom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727600" y="3359160"/>
            <a:ext cx="596880" cy="596880"/>
          </a:xfrm>
          <a:prstGeom prst="ellipse">
            <a:avLst/>
          </a:prstGeom>
          <a:solidFill>
            <a:srgbClr val="ffcc99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946920" y="4578480"/>
            <a:ext cx="596880" cy="596880"/>
          </a:xfrm>
          <a:prstGeom prst="ellipse">
            <a:avLst/>
          </a:prstGeom>
          <a:solidFill>
            <a:srgbClr val="ffcc99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166240" y="3359160"/>
            <a:ext cx="596880" cy="596880"/>
          </a:xfrm>
          <a:prstGeom prst="ellipse">
            <a:avLst/>
          </a:prstGeom>
          <a:solidFill>
            <a:srgbClr val="ffcc99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108840" y="2521080"/>
            <a:ext cx="596880" cy="596880"/>
          </a:xfrm>
          <a:prstGeom prst="ellipse">
            <a:avLst/>
          </a:prstGeom>
          <a:solidFill>
            <a:srgbClr val="ffcc99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108840" y="4197240"/>
            <a:ext cx="596880" cy="596880"/>
          </a:xfrm>
          <a:prstGeom prst="ellipse">
            <a:avLst/>
          </a:prstGeom>
          <a:solidFill>
            <a:srgbClr val="ffcc99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785000" y="2521080"/>
            <a:ext cx="596880" cy="596880"/>
          </a:xfrm>
          <a:prstGeom prst="ellipse">
            <a:avLst/>
          </a:prstGeom>
          <a:solidFill>
            <a:srgbClr val="ffcc99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804080" y="4216320"/>
            <a:ext cx="558720" cy="558720"/>
          </a:xfrm>
          <a:prstGeom prst="ellipse">
            <a:avLst/>
          </a:prstGeom>
          <a:solidFill>
            <a:srgbClr val="ffcc99"/>
          </a:solidFill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946920" y="2139840"/>
            <a:ext cx="596880" cy="596880"/>
          </a:xfrm>
          <a:prstGeom prst="ellipse">
            <a:avLst/>
          </a:prstGeom>
          <a:solidFill>
            <a:srgbClr val="ffcc99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543800" y="4654440"/>
            <a:ext cx="317520" cy="139680"/>
          </a:xfrm>
          <a:prstGeom prst="line">
            <a:avLst/>
          </a:prstGeom>
          <a:ln w="1260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 flipV="1">
            <a:off x="6705720" y="4489560"/>
            <a:ext cx="317520" cy="164880"/>
          </a:xfrm>
          <a:prstGeom prst="line">
            <a:avLst/>
          </a:prstGeom>
          <a:ln w="1260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6248160" y="3879720"/>
            <a:ext cx="88920" cy="317520"/>
          </a:xfrm>
          <a:prstGeom prst="line">
            <a:avLst/>
          </a:prstGeom>
          <a:ln w="1260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6261120" y="2736720"/>
            <a:ext cx="901800" cy="774720"/>
          </a:xfrm>
          <a:prstGeom prst="line">
            <a:avLst/>
          </a:prstGeom>
          <a:ln w="1260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709040" y="4959360"/>
            <a:ext cx="215640" cy="2919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556400" y="2597040"/>
            <a:ext cx="216000" cy="63720"/>
          </a:xfrm>
          <a:prstGeom prst="line">
            <a:avLst/>
          </a:prstGeom>
          <a:ln w="1260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166240" y="3130560"/>
            <a:ext cx="139680" cy="291960"/>
          </a:xfrm>
          <a:prstGeom prst="line">
            <a:avLst/>
          </a:prstGeom>
          <a:ln w="1260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8229240" y="3968640"/>
            <a:ext cx="88920" cy="292320"/>
          </a:xfrm>
          <a:prstGeom prst="line">
            <a:avLst/>
          </a:prstGeom>
          <a:ln w="1260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007480" y="5568840"/>
            <a:ext cx="901440" cy="6732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6,5,4,3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2,1,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566040" y="4883040"/>
            <a:ext cx="215640" cy="2923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803920" y="4044960"/>
            <a:ext cx="216000" cy="2919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642000" y="3282840"/>
            <a:ext cx="216000" cy="2923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709040" y="2216160"/>
            <a:ext cx="215640" cy="2919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470800" y="2978280"/>
            <a:ext cx="216000" cy="2919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470800" y="4044960"/>
            <a:ext cx="216000" cy="2919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ing Algorith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Clock Synchronizatio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locks run at different speed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Four solution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Mutual Exclusio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Need for process coordination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entralized, Time-stamped, Token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Election Algorithm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oordinator may crash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Bully and Ring algorithm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tomic Transaction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eadlocks in Distributed System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Review and Preview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Clock Synchronizatio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Mutual Exclusio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Election Algorithm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tomic Transaction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eadlocks in Distributed System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 and Pre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169560" indent="-169560">
              <a:lnSpc>
                <a:spcPct val="85000"/>
              </a:lnSpc>
              <a:spcBef>
                <a:spcPts val="15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Single CPU Systems</a:t>
            </a:r>
            <a:endParaRPr b="1" i="1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447840" indent="-164880">
              <a:lnSpc>
                <a:spcPct val="85000"/>
              </a:lnSpc>
              <a:spcBef>
                <a:spcPts val="125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Processes Management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447840" indent="-164880">
              <a:lnSpc>
                <a:spcPct val="85000"/>
              </a:lnSpc>
              <a:spcBef>
                <a:spcPts val="125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Memory Management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447840" indent="-164880">
              <a:lnSpc>
                <a:spcPct val="85000"/>
              </a:lnSpc>
              <a:spcBef>
                <a:spcPts val="125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File Systems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447840" indent="-164880">
              <a:lnSpc>
                <a:spcPct val="85000"/>
              </a:lnSpc>
              <a:spcBef>
                <a:spcPts val="125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Input &amp; Output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169560" indent="-169560">
              <a:lnSpc>
                <a:spcPct val="85000"/>
              </a:lnSpc>
              <a:spcBef>
                <a:spcPts val="15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Centralized, Networked, Distributed Systems</a:t>
            </a:r>
            <a:endParaRPr b="1" i="1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447840" indent="-164880">
              <a:lnSpc>
                <a:spcPct val="85000"/>
              </a:lnSpc>
              <a:spcBef>
                <a:spcPts val="125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dvantages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736920" indent="-176040">
              <a:lnSpc>
                <a:spcPct val="85000"/>
              </a:lnSpc>
              <a:spcBef>
                <a:spcPts val="113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Price/Performance, Reliability, Sharing</a:t>
            </a: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  <a:p>
            <a:pPr lvl="1" marL="447840" indent="-164880">
              <a:lnSpc>
                <a:spcPct val="85000"/>
              </a:lnSpc>
              <a:spcBef>
                <a:spcPts val="125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Disadvantages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736920" indent="-176040">
              <a:lnSpc>
                <a:spcPct val="85000"/>
              </a:lnSpc>
              <a:spcBef>
                <a:spcPts val="113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Software, Networks, Security</a:t>
            </a: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  <a:p>
            <a:pPr lvl="1" marL="447840" indent="-164880">
              <a:lnSpc>
                <a:spcPct val="85000"/>
              </a:lnSpc>
              <a:spcBef>
                <a:spcPts val="125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Fastest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736920" indent="-176040">
              <a:lnSpc>
                <a:spcPct val="85000"/>
              </a:lnSpc>
              <a:spcBef>
                <a:spcPts val="113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Tightly coupled software on tightly coupled bus</a:t>
            </a: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  <a:p>
            <a:pPr marL="169560" indent="-169560">
              <a:lnSpc>
                <a:spcPct val="85000"/>
              </a:lnSpc>
              <a:spcBef>
                <a:spcPts val="15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Communication</a:t>
            </a:r>
            <a:endParaRPr b="1" i="1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447840" indent="-164880">
              <a:lnSpc>
                <a:spcPct val="85000"/>
              </a:lnSpc>
              <a:spcBef>
                <a:spcPts val="125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ISO-OSI Model (Seven Layers)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447840" indent="-164880">
              <a:lnSpc>
                <a:spcPct val="85000"/>
              </a:lnSpc>
              <a:spcBef>
                <a:spcPts val="125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Protocols (Connection-Oriented, Connectionless)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447840" indent="-164880">
              <a:lnSpc>
                <a:spcPct val="85000"/>
              </a:lnSpc>
              <a:spcBef>
                <a:spcPts val="125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Client-Server Model (Microkernel)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169560" indent="-169560">
              <a:lnSpc>
                <a:spcPct val="85000"/>
              </a:lnSpc>
              <a:spcBef>
                <a:spcPts val="15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Synchronization</a:t>
            </a:r>
            <a:endParaRPr b="1" i="1" lang="en-US" sz="24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ock Synchroniz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157320" indent="-15732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roblem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16160" indent="-15300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ifferent clocks run at different speed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16160" indent="-15300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Network congestion adds to message dela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57320" indent="-15732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ignificanc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16160" indent="-15300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ocesses use time-based messag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16160" indent="-15300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ompilers decide whether to include program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16160" indent="-15300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ifference by one clock tick causes problem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57320" indent="-15732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olution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16160" indent="-15300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ndependent Clocks 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684720" indent="-1634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Do nothing approach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16160" indent="-15300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Event Ordering 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684720" indent="-1634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Reset clocks based on known event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16160" indent="-15300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entral Clock 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684720" indent="-1634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UTC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16160" indent="-15300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ime Averaging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684720" indent="-1634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Cristian’s, Berkeley, Interval, External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tual Exclus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roblem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Network delay causes processes out of orde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olution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entralized: Coordinato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istributed: Timestamp with lowest winning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oken Ring: Token holder win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isadvantag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entralized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Coordinator crash will crash the network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istributed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Process not responding crashes network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oken Ring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Lost token will crash the network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lection Algorith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The Bully Algorithm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oordinator fails to “coordinate”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Bully” process sends messag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If nobody responds, “Bully” becomes coordinator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Bully” sends announcemen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If “real” coordinator comes back: new election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Ring Algorithm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oordinator fails to “coordinate”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First process sends a “ballot” messag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Ballot circulates to all running process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Upon return: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originator identifies new coordinator 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sends a “result” message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727600" y="3359160"/>
            <a:ext cx="596880" cy="5968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946920" y="4578480"/>
            <a:ext cx="596880" cy="5968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166240" y="3359160"/>
            <a:ext cx="596880" cy="5968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108840" y="4197240"/>
            <a:ext cx="596880" cy="5968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785000" y="2521080"/>
            <a:ext cx="596880" cy="5968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785000" y="4197240"/>
            <a:ext cx="596880" cy="5968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108840" y="2521080"/>
            <a:ext cx="596880" cy="5968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946920" y="2139840"/>
            <a:ext cx="596880" cy="5968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lly Algorith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ssum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ocess “7” is coordinato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The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ocess “7” crash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114960" y="2527200"/>
            <a:ext cx="660600" cy="584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6089760" y="2451240"/>
            <a:ext cx="635040" cy="66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727600" y="3359160"/>
            <a:ext cx="596880" cy="5968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946920" y="4578480"/>
            <a:ext cx="596880" cy="5968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166240" y="3359160"/>
            <a:ext cx="596880" cy="5968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4197240"/>
            <a:ext cx="596880" cy="5968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785000" y="2521080"/>
            <a:ext cx="596880" cy="5968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804080" y="4216320"/>
            <a:ext cx="558720" cy="558720"/>
          </a:xfrm>
          <a:prstGeom prst="ellipse">
            <a:avLst/>
          </a:prstGeom>
          <a:solidFill>
            <a:srgbClr val="cc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6553080" y="3117960"/>
            <a:ext cx="1308240" cy="1155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108840" y="2521080"/>
            <a:ext cx="596880" cy="5968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946920" y="2139840"/>
            <a:ext cx="596880" cy="5968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lly Algorith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ssum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ocess “7” is coordinato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The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ocess “7” crash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ocess “3” is first to notic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114960" y="2527200"/>
            <a:ext cx="660600" cy="584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6089760" y="2451240"/>
            <a:ext cx="635040" cy="66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727600" y="3359160"/>
            <a:ext cx="596880" cy="5968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946920" y="4578480"/>
            <a:ext cx="596880" cy="5968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166240" y="3359160"/>
            <a:ext cx="596880" cy="5968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108840" y="2521080"/>
            <a:ext cx="596880" cy="5968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108840" y="4197240"/>
            <a:ext cx="596880" cy="5968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785000" y="2521080"/>
            <a:ext cx="596880" cy="5968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804080" y="4216320"/>
            <a:ext cx="558720" cy="558720"/>
          </a:xfrm>
          <a:prstGeom prst="ellipse">
            <a:avLst/>
          </a:prstGeom>
          <a:solidFill>
            <a:srgbClr val="cc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946920" y="2139840"/>
            <a:ext cx="596880" cy="5968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7467480" y="4273560"/>
            <a:ext cx="470160" cy="368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705720" y="4273560"/>
            <a:ext cx="1231920" cy="21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6324120" y="3727080"/>
            <a:ext cx="1613160" cy="546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 flipV="1">
            <a:off x="6553080" y="3041640"/>
            <a:ext cx="1384560" cy="1231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lly Algorith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ssum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ocess “7” is coordinato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The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ocess “7” crash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ocess “3” is first to notic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3” sends election messag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14960" y="2527200"/>
            <a:ext cx="660600" cy="584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6089760" y="2451240"/>
            <a:ext cx="635040" cy="66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23T22:58:08Z</dcterms:created>
  <dc:creator>Dean Hipwell</dc:creator>
  <dc:description/>
  <dc:language>en-US</dc:language>
  <cp:lastModifiedBy>hipwelld</cp:lastModifiedBy>
  <dcterms:modified xsi:type="dcterms:W3CDTF">2001-01-15T19:03:33Z</dcterms:modified>
  <cp:revision>12</cp:revision>
  <dc:subject>CST400 - Operating System Theory &amp; Design</dc:subject>
  <dc:title>Chap 11 - Synchronization in Distributed Systems</dc:title>
</cp:coreProperties>
</file>