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A9DC62D1-378C-4BB7-A952-11D0846B3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09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istribute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21080" y="4121280"/>
            <a:ext cx="1054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2280" y="4121280"/>
            <a:ext cx="1054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0480" y="5313240"/>
            <a:ext cx="28861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219320" y="338472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8120" y="197496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4560" y="41212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" y="2863800"/>
            <a:ext cx="749160" cy="520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73360" y="2863800"/>
            <a:ext cx="749160" cy="520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33028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233028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048120" y="338472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73360" y="41212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70600" y="197496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5760" y="3124080"/>
            <a:ext cx="10159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83240" y="4273560"/>
            <a:ext cx="1054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54440" y="4273560"/>
            <a:ext cx="1054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53000" y="5313240"/>
            <a:ext cx="38005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53700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80640" y="212724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7080" y="427356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7080" y="3016080"/>
            <a:ext cx="749160" cy="520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35880" y="3016080"/>
            <a:ext cx="749160" cy="520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24829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24829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010280" y="353700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35880" y="427356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3120" y="212724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7920" y="3276720"/>
            <a:ext cx="558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172200" y="1955520"/>
            <a:ext cx="0" cy="13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001000" y="1955520"/>
            <a:ext cx="0" cy="13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16720" y="3276720"/>
            <a:ext cx="558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54440" y="1606680"/>
            <a:ext cx="3797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4280" y="5921280"/>
            <a:ext cx="3147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ghtly Coupled: High Spe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Low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19600" y="5921280"/>
            <a:ext cx="320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osely Coupled: Low Spe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High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connection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-Based Multiprocess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ple CP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mon B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32 Address, 32 Data, 20-30 Control Lin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ared Memory Module - Coher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s overloads with 4-5 CP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che solves overload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introduces incoherenc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rite-Through Cach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Writes” to the cache are also written to memor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olves incoherency and reduces bus traffic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noopy” Cach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onitors bus traffic and updates its own data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ossible for 32-64 CPUs on a single bu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tched Multiprocess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ful for 64+ CPU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witching Approac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ossbar Switch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05120" indent="-1630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omentarily connects CPU to memory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mega Networ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05120" indent="-1630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etwork of 2x2 switches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n-Uniform Memory Acces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05120" indent="-1630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ome private, some shared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ple Memory Modu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rossbar Switch requires n</a:t>
            </a:r>
            <a:r>
              <a:rPr b="1" lang="en-US" sz="24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crosspoint switc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mega Network requires (n*log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)/2 crosspoi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 introduces latenc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A reduces latenc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complicates programm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-Based Multicompu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ple CP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ivate B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ivate Memory Modu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PU-to-CPU Communic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PU-to-Memory Traffic = 300 Mbp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PU-to-CPU Traffic = 10-100 Mbp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cal Area Network is considered a b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rial communic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gnaling protocol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tched Multicompu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ful for 64+ CPU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witching Approac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Grid:  Two-Dimensional Layou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ypercube: N-Dimensional Layou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ivate Memory Modu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lex wiring or large circuit boar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 Co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ypercubes can use up to 16,384 CP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oosely Coupl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chines &amp; users to operate independent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osest coupling is “Sneaker” Ne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ightly Coupl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ch machine performs one part of same tas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ightest coupling is parallel process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perating Systems and N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oosely-coupled software on loosely-coupled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r can use machine independently of oth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munication is low speed with high del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mple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te logins,  Multiple remote logi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te Copy Comma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cp machine1:file1 machine2:file2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hared Global File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-Server Mod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cal system augmented by network server file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twork Operating Systems (NOS)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mplify protocols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llow heterogeneous collections of clien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FS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rvers export directo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s remotely mount exported directo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rvers can also act as client machin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FS 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tatic Mount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 requests a path na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rver returns a file hand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 maps the handle into the local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bsequent calls use the file hand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utomount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ent tries to open a fi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S signals all remote serv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first server to respond is moun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f a mapped server is down, client cannot boot-up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ccessing in parallel improves fault tolerance &amp; response tim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rectory structures must be identical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FS 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tateless File Acces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pening files normally locks state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ilename and location within the fi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ing a file does not lock state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ilename, location within the file, bytes to retur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mmunicated by self-contained mess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lient program doesn’t crash if server fails and recove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ultiple users can access a single file simultaneous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annot lock a file to prevent others from access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curity must be implemented separate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o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ardware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ftware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sign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92280" y="1530360"/>
            <a:ext cx="364464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7080" y="1530360"/>
            <a:ext cx="364464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8080" y="1987560"/>
            <a:ext cx="227304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6840" y="2978280"/>
            <a:ext cx="303552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File System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6840" y="3892680"/>
            <a:ext cx="90180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30560" y="3892680"/>
            <a:ext cx="90180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9040" y="3892680"/>
            <a:ext cx="90180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7960" y="3892680"/>
            <a:ext cx="90180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11640" y="2978280"/>
            <a:ext cx="303552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File System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263600" y="4730760"/>
            <a:ext cx="368280" cy="520560"/>
            <a:chOff x="1263600" y="4730760"/>
            <a:chExt cx="368280" cy="520560"/>
          </a:xfrm>
        </p:grpSpPr>
        <p:sp>
          <p:nvSpPr>
            <p:cNvPr id="196" name=""/>
            <p:cNvSpPr/>
            <p:nvPr/>
          </p:nvSpPr>
          <p:spPr>
            <a:xfrm>
              <a:off x="1263600" y="5111640"/>
              <a:ext cx="36828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63600" y="4807080"/>
              <a:ext cx="3682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63600" y="4730760"/>
              <a:ext cx="36828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66840" y="5119560"/>
              <a:ext cx="352440" cy="114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435800" y="4726080"/>
            <a:ext cx="368280" cy="520560"/>
            <a:chOff x="7435800" y="4726080"/>
            <a:chExt cx="368280" cy="520560"/>
          </a:xfrm>
        </p:grpSpPr>
        <p:sp>
          <p:nvSpPr>
            <p:cNvPr id="201" name=""/>
            <p:cNvSpPr/>
            <p:nvPr/>
          </p:nvSpPr>
          <p:spPr>
            <a:xfrm>
              <a:off x="7435800" y="5106960"/>
              <a:ext cx="36828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35800" y="4802040"/>
              <a:ext cx="3682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5800" y="4726080"/>
              <a:ext cx="368280" cy="13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39040" y="5114880"/>
              <a:ext cx="352440" cy="114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514600" y="23684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3359160"/>
            <a:ext cx="59688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517760" y="3359160"/>
            <a:ext cx="62208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450216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7760" y="57150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7960" y="57150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450216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40440" y="3359160"/>
            <a:ext cx="59688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632560" y="3359160"/>
            <a:ext cx="62208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4502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0120" y="4502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92680" y="5568840"/>
            <a:ext cx="1434960" cy="368280"/>
          </a:xfrm>
          <a:prstGeom prst="parallelogram">
            <a:avLst>
              <a:gd name="adj" fmla="val 5680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th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9680" y="3968640"/>
            <a:ext cx="444240" cy="4446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35280" y="3968640"/>
            <a:ext cx="444240" cy="4446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2480" y="3282840"/>
            <a:ext cx="444240" cy="4446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7960" y="61722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1320" y="45021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44258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8280" y="617220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16360" y="6026040"/>
            <a:ext cx="1434960" cy="368280"/>
          </a:xfrm>
          <a:prstGeom prst="parallelogram">
            <a:avLst>
              <a:gd name="adj" fmla="val 5680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7040" y="3664080"/>
            <a:ext cx="29232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70120" y="5635800"/>
            <a:ext cx="2247120" cy="7642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e: Subsequent cal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ss the handle ra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n the path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FS 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FS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ad-Ahea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ata is passed in 8KB “chunks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“next chunk” is automatically reques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rite-Bac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ata in less than 8KB “chunks” is stored locally until 8KB is accumula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ach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wo caches:  I-nodes and file dat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duces network traffic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proves client respons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roduces incoherency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nother client reads old data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Watchdog timers force write-backs to the serv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 Distribute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ightly-coupled software on loosely-coupled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r can NOT use machine independently of oth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munication is still low speed with high del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ngle, global IPC mechanis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lobal protection sche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dentical process management approac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lobal file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dentical kernels on each cli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cal kernels decide WHAT to swap, not HOW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rocessor Timeshar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ightly-coupled software on tightly-coupled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r can NOT use machine independently of oth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munication is HIGH speed with LOW del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ngle “Ready” queu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cheduler must be classed a critical reg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ng processes spend equal time on each CPU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itial execution is slow until cache is purg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sy Waiting may be better than Sleep &amp; Wake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ystem is same as single processor syste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ransparenc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lexibil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liabil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erforma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calabil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o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de system operation from user display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de system architecture from programm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c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ames must not reveal loc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igr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sources can be moved without changing names or forcing others to change referenc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plic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rs cannot tell how many copies exi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currenc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rs can share resources automatical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rallelis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rs don’t know if running on multiple processo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grammers don’t need to code parallelism explicit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o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 for growth or new technolog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nolithic Kern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entralized O/S augmented with networking facilities and remote servic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icrokern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inimal Servic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IPC, memory management, low-level process management and scheduling, low-level I/O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 file management, directory system, or system call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vides common, uniform interface between machin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llows adding, deleting, and modifying services without changing the kernel cod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o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prove performance over single process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pec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liabil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he probability that a system will not fail when call up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vailabil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he fraction of time the system is usab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sistenc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pies must be made identical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essages originators must be identifiab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ault Toler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rver glitches do not crash clien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o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intain speed compared to single processor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tr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onse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quest to rep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roughpu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jobs per hou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essages per job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ystem Utiliz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ime waiting for network servi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twork Capacity Consum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ps per secon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rain-size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ine: small computations, high interaction, lots of data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arse: large computations, low interaction, little data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ault Toler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ds extra messag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o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ardware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ftware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sign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anagement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yste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put &amp; Outpu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IX and MS-DO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Advent of Distributed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owerful Microprocesso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 Speed Networ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adically different software requireme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3600" y="6296040"/>
            <a:ext cx="359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ource: California Computer News adverti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s of Distributed over Centralized Systems (i.e. Mainframes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tter Price/Perform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entiums*:  75MHz =$120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150MHz=$450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our times the cost for only twice the performan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tter Absolute Perform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1000 CPUs running @20 MIPS give 20,000 MIP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 single chip would have to run at 20 GHz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me processes inherently distribu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actory autom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utomatic Teller Machin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er Reliabil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ngle chip failure does not halt the entire system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cremental Growt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ditional machines can be added to accommodate growth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s of Distributed over Independent P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bility to Share Dat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Cs use the “Sneaker” Net (Too slow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atabase size may be too big for individual machin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bility to Share Periphera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inters, Plotters, Scanners, Modems, Tape Driv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not Keyboards, Mice, Display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nhanced Communic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-mail, “Chat” Lines, Video Teleconferenc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ared Workloa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nd the big tasks to the faster compute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ppropriaten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ittle computers for the simpler tasks (Database User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ig computers for the complex tasks (Database Builder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s of Distributed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ftwa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tate-of-the-Art is immatur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reliable Networ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se messag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etworks run slower than CPUs and can become saturat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Wiring and Cabling expens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haring capability also invites unwanted gues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ware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fini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lynn’s Taxonomy (Instruction &amp; Data Stream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SD:  Uniprocessor Compute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MD:  Array Processors (i.e. supercomputers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ISD:  No known model (distributed simulation??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IMD:  Independent Compute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anenbaum’s Extens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IMD with shared memory: multiprocesso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IMD with common memory: multicompute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rchitecture Interconnec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ss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witch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ightly Coupl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osely Coupl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13200" y="2355840"/>
            <a:ext cx="1356480" cy="2527560"/>
            <a:chOff x="313200" y="2355840"/>
            <a:chExt cx="1356480" cy="2527560"/>
          </a:xfrm>
        </p:grpSpPr>
        <p:sp>
          <p:nvSpPr>
            <p:cNvPr id="60" name=""/>
            <p:cNvSpPr/>
            <p:nvPr/>
          </p:nvSpPr>
          <p:spPr>
            <a:xfrm>
              <a:off x="615960" y="3244680"/>
              <a:ext cx="749160" cy="52092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271152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990720" y="376560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3200" y="2355840"/>
              <a:ext cx="135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1080" y="4489560"/>
              <a:ext cx="719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216160" y="2444760"/>
            <a:ext cx="7491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1911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133720" y="456552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13400" y="155592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74080" y="528948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8960" y="4044960"/>
            <a:ext cx="7491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73360" y="4044960"/>
            <a:ext cx="7491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35114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35114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29782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35053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048120" y="456552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88480" y="528948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5920" y="5846760"/>
            <a:ext cx="11332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7520" y="5846760"/>
            <a:ext cx="166680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81800" y="5846760"/>
            <a:ext cx="25048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010280" y="376560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09440" y="235584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1000" y="448956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35880" y="3244680"/>
            <a:ext cx="749160" cy="520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07480" y="3244680"/>
            <a:ext cx="749160" cy="520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0280" y="27115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1880" y="27115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8381880" y="376560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22600" y="448956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04720" y="235584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92680" y="2444760"/>
            <a:ext cx="7491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1911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952880" y="456552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920" y="155592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93600" y="528948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8480" y="4044960"/>
            <a:ext cx="7491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5114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9782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7240" y="35053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64280" y="2444760"/>
            <a:ext cx="7491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911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1520" y="155592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29782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62280" y="5846760"/>
            <a:ext cx="258120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ynn’s Taxonom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73360" y="3968640"/>
            <a:ext cx="1054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01760" y="3968640"/>
            <a:ext cx="1054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7960" y="4349880"/>
            <a:ext cx="23493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00320" y="5313240"/>
            <a:ext cx="25048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32320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27600" y="182232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54040" y="3968640"/>
            <a:ext cx="74952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4040" y="2711520"/>
            <a:ext cx="7495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25640" y="2711520"/>
            <a:ext cx="7495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17800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17800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200400" y="32320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5640" y="3968640"/>
            <a:ext cx="74952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23240" y="182232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33880" y="5313240"/>
            <a:ext cx="26575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638680" y="32320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37840" y="182232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7960" y="3968640"/>
            <a:ext cx="23493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64280" y="2711520"/>
            <a:ext cx="7491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35880" y="2711520"/>
            <a:ext cx="7491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217800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217800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010280" y="32320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33120" y="182232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4280" y="4349880"/>
            <a:ext cx="82548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59560" y="4349880"/>
            <a:ext cx="90180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nenbaum’s Exten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3T22:27:44Z</dcterms:created>
  <dc:creator>Dean Hipwell</dc:creator>
  <dc:description/>
  <dc:language>en-US</dc:language>
  <cp:lastModifiedBy>hipwelld</cp:lastModifiedBy>
  <cp:lastPrinted>1996-08-19T00:45:24Z</cp:lastPrinted>
  <dcterms:modified xsi:type="dcterms:W3CDTF">2001-01-15T19:03:41Z</dcterms:modified>
  <cp:revision>23</cp:revision>
  <dc:subject>CST400 - Operating System Theory &amp; Design</dc:subject>
  <dc:title>Chap 8 - Intro to Distributed Systems</dc:title>
</cp:coreProperties>
</file>