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1440" y="36000"/>
            <a:ext cx="7687800" cy="425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76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76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76"/>
              </a:spcBef>
              <a:buClr>
                <a:srgbClr val="0066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250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T400 - Operating System Theory &amp;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35800" y="6629400"/>
            <a:ext cx="792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:  </a:t>
            </a:r>
            <a:fld id="{7B30D557-4C0A-4050-A868-B24AB8E04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61440" y="6629400"/>
            <a:ext cx="82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400c06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27560" y="2327400"/>
            <a:ext cx="7688880" cy="1059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6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522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cr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1447920"/>
            <a:ext cx="4419360" cy="60948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ST400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perating Systems Theory &amp;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5029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ed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w S. Tanenbaum. “Modern Operating Systems”. Prentice-Hall. 199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prepared by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Dean Hipwell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 Recove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covery from Deadlock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eemp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top a job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emember where job stopped and what is left to do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tart the new job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epends of the type of devic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ollbac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rocesses check-pointed periodically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oll” back process to before it started using a resourc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Output since the checkpoint is lost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Killing Process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Halts a process and restarts the resource request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rocesses for killing must be carefully selected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Printer vs Database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 Avoid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source Trajectori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Keeps track of resource reques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dentifies “Safe” and “Unsafe” regio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afe:  Guarantees completion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Unsafe: No guarante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elps decide whether to grant a resource reques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 Banker’s Algorith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Keeps track of Process requiremen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ctive Processes (Customers)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vailable Resources (Money in the Bank)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esources Assigned (Credit given)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esources still needed (Credit requests)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adlock avoided by limiting resources assigned to the available resourc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01760" y="2597040"/>
            <a:ext cx="67320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01760" y="3130560"/>
            <a:ext cx="67320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01760" y="3664080"/>
            <a:ext cx="67320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01760" y="4197240"/>
            <a:ext cx="67320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01760" y="4730760"/>
            <a:ext cx="67320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87560" y="2597040"/>
            <a:ext cx="5205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87560" y="313056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87560" y="366408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87560" y="4197240"/>
            <a:ext cx="5205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87560" y="473076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01760" y="5264280"/>
            <a:ext cx="67320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87560" y="526428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21080" y="2597040"/>
            <a:ext cx="5205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21080" y="313056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21080" y="366408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21080" y="4197240"/>
            <a:ext cx="5205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21080" y="473076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21080" y="526428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8540000">
            <a:off x="1879560" y="1856520"/>
            <a:ext cx="1274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8540000">
            <a:off x="2563920" y="2085840"/>
            <a:ext cx="663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8540000">
            <a:off x="1353240" y="1857240"/>
            <a:ext cx="1103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85120" y="5899320"/>
            <a:ext cx="2051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Re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07080" y="2597040"/>
            <a:ext cx="67284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7080" y="3130560"/>
            <a:ext cx="67284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7080" y="3664080"/>
            <a:ext cx="67284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7080" y="4197240"/>
            <a:ext cx="67284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07080" y="4730760"/>
            <a:ext cx="67284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07080" y="5264280"/>
            <a:ext cx="67284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8540000">
            <a:off x="6558480" y="1932480"/>
            <a:ext cx="1059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8540000">
            <a:off x="4858560" y="1857240"/>
            <a:ext cx="1103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79840" y="5899320"/>
            <a:ext cx="234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92880" y="2597040"/>
            <a:ext cx="5205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92880" y="313056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92880" y="366408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92880" y="4197240"/>
            <a:ext cx="5205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92880" y="473076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92880" y="526428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26040" y="2597040"/>
            <a:ext cx="52092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26040" y="3130560"/>
            <a:ext cx="5209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26040" y="3664080"/>
            <a:ext cx="5209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26040" y="4197240"/>
            <a:ext cx="52092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26040" y="4730760"/>
            <a:ext cx="5209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26040" y="5264280"/>
            <a:ext cx="5209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59560" y="2597040"/>
            <a:ext cx="5205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59560" y="313056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59560" y="366408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559560" y="4197240"/>
            <a:ext cx="5205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559560" y="473076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559560" y="526428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93080" y="2597040"/>
            <a:ext cx="5205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93080" y="313056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93080" y="366408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93080" y="4197240"/>
            <a:ext cx="5205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93080" y="473076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93080" y="526428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8540000">
            <a:off x="5373720" y="1780560"/>
            <a:ext cx="1444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-D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8540000">
            <a:off x="5938200" y="1857240"/>
            <a:ext cx="1230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-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8540000">
            <a:off x="7098120" y="19328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6240" y="2597040"/>
            <a:ext cx="52092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6240" y="3130560"/>
            <a:ext cx="5209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6240" y="3664080"/>
            <a:ext cx="5209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6240" y="4197240"/>
            <a:ext cx="52092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6240" y="4730760"/>
            <a:ext cx="5209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6240" y="5264280"/>
            <a:ext cx="5209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8540000">
            <a:off x="7538400" y="1857240"/>
            <a:ext cx="1230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?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nker’s 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807080" y="2597040"/>
            <a:ext cx="67284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07080" y="3130560"/>
            <a:ext cx="67284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7080" y="3664080"/>
            <a:ext cx="67284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07080" y="4197240"/>
            <a:ext cx="67284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07080" y="4730760"/>
            <a:ext cx="67284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07080" y="5264280"/>
            <a:ext cx="67284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8540000">
            <a:off x="6558480" y="1932480"/>
            <a:ext cx="1059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18540000">
            <a:off x="4858560" y="1857240"/>
            <a:ext cx="1103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72000" y="5899320"/>
            <a:ext cx="1553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92880" y="2597040"/>
            <a:ext cx="5205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92880" y="313056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92880" y="366408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92880" y="4197240"/>
            <a:ext cx="5205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92880" y="473076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92880" y="526428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26040" y="2597040"/>
            <a:ext cx="52092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26040" y="3130560"/>
            <a:ext cx="5209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26040" y="3664080"/>
            <a:ext cx="5209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26040" y="4197240"/>
            <a:ext cx="52092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26040" y="4730760"/>
            <a:ext cx="5209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26040" y="5264280"/>
            <a:ext cx="5209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59560" y="2597040"/>
            <a:ext cx="5205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59560" y="313056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59560" y="366408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559560" y="4197240"/>
            <a:ext cx="5205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59560" y="473076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559560" y="526428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93080" y="2597040"/>
            <a:ext cx="5205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93080" y="313056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93080" y="366408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93080" y="4197240"/>
            <a:ext cx="5205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93080" y="473076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93080" y="526428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8540000">
            <a:off x="5373720" y="1780560"/>
            <a:ext cx="1444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-D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8540000">
            <a:off x="5938200" y="1857240"/>
            <a:ext cx="1230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-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8540000">
            <a:off x="7098120" y="19328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96840" y="2597040"/>
            <a:ext cx="67320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96840" y="3130560"/>
            <a:ext cx="67320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96840" y="3664080"/>
            <a:ext cx="67320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6840" y="4197240"/>
            <a:ext cx="67320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96840" y="4730760"/>
            <a:ext cx="67320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6840" y="5264280"/>
            <a:ext cx="67320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8540000">
            <a:off x="2748240" y="1932120"/>
            <a:ext cx="1059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18540000">
            <a:off x="1048680" y="1857240"/>
            <a:ext cx="1103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24120" y="5899320"/>
            <a:ext cx="1230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82640" y="2597040"/>
            <a:ext cx="52092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82640" y="3130560"/>
            <a:ext cx="5209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82640" y="3664080"/>
            <a:ext cx="5209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82640" y="4197240"/>
            <a:ext cx="52092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82640" y="4730760"/>
            <a:ext cx="5209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82640" y="5264280"/>
            <a:ext cx="5209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16160" y="2597040"/>
            <a:ext cx="5205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16160" y="313056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16160" y="366408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16160" y="4197240"/>
            <a:ext cx="5205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16160" y="473076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16160" y="526428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49680" y="2597040"/>
            <a:ext cx="5205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749680" y="313056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49680" y="366408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49680" y="4197240"/>
            <a:ext cx="5205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9680" y="473076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49680" y="5264280"/>
            <a:ext cx="520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82840" y="2597040"/>
            <a:ext cx="52092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82840" y="3130560"/>
            <a:ext cx="5209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82840" y="3664080"/>
            <a:ext cx="5209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82840" y="4197240"/>
            <a:ext cx="52092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82840" y="4730760"/>
            <a:ext cx="5209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82840" y="5264280"/>
            <a:ext cx="5209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18540000">
            <a:off x="1563480" y="1780560"/>
            <a:ext cx="1444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-D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18540000">
            <a:off x="2127960" y="1856880"/>
            <a:ext cx="1230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-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18540000">
            <a:off x="3288240" y="19328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nker’s Algorithm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Multiple Resource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 Preven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169560" indent="-1695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utual Exclus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et no process exclude any other proces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inters: Use spoolers and daemo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ks: Spooling space may run ou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9560" indent="-1695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Hold and Wai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on’t keep “holding” processes wait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quire resource requests before execu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quire temporary releas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9560" indent="-1695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No Preemp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pends on the resource being pre-empt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9560" indent="-1695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ircular Wai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llow only one resource at a tim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umber resources globally and use in sequence onl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wo-Phase Lock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hase 1: Lock all the records need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hase 2: Perform all tasks and unlock record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lease all captured records if phase 1 fail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oes not work on network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Non-Resource Deadlock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maphores set in the wrong order lead to deadloc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tarv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member the “Dining Student’s Problem”?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sourc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eemptable and non-preemptabl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adlock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nditions: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Mutual Exclusion, 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Hold and Wait, 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No Preemption, 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ircular Wait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adlock Handling Strategi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gnore the Proble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adlock Detection and Recove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adlock Avoidan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adlock Preven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Other Issu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view of Management Process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sourc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adlock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andling Strategi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tection and Recove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voidan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even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Other Issu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of Management Proces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cess Managemen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nages Process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nagement Resource: Tim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emory Managemen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nages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nagement Resource: Address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le Managemen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nages Fil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nagement Resource: Nam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nput/Output Managemen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nages Devic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nagement Resource: Communica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eemptable Resourc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an be taken from own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mplemented through swapp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Non-preemptable Resourc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annot be taken from own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.g. a printer in the middle of a print job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source Usage Sequenc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quest the Resource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se the Resource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lease the Resour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fini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 set of processes is deadlocked if each process in the set is waiting for an event that only another process in the set can cause.”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onditions for Deadlock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utual Exclus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old and Wai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o Preemp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ircular Wai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adlock Model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Nod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source Nod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quest/Waiting Arc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flipV="1">
            <a:off x="6102360" y="2813040"/>
            <a:ext cx="596880" cy="1155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11240" y="2216160"/>
            <a:ext cx="596880" cy="59688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7760" y="2216160"/>
            <a:ext cx="596880" cy="59688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645160" y="2292480"/>
            <a:ext cx="596880" cy="59688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59560" y="2292480"/>
            <a:ext cx="596880" cy="59688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209680" y="2812680"/>
            <a:ext cx="0" cy="1079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86200" y="2812680"/>
            <a:ext cx="0" cy="107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943600" y="2889360"/>
            <a:ext cx="0" cy="10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858000" y="2889360"/>
            <a:ext cx="0" cy="10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11240" y="3892680"/>
            <a:ext cx="596880" cy="5968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7760" y="3892680"/>
            <a:ext cx="596880" cy="5968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45160" y="3968640"/>
            <a:ext cx="596880" cy="5968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59560" y="3968640"/>
            <a:ext cx="596880" cy="5968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6089760" y="2813040"/>
            <a:ext cx="622080" cy="1155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78360" y="4908600"/>
            <a:ext cx="1245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d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73560" y="4756320"/>
            <a:ext cx="1274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50080" y="4756320"/>
            <a:ext cx="1274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1240" y="2317680"/>
            <a:ext cx="1373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6480" y="3994200"/>
            <a:ext cx="1402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 Mode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30360" y="2216160"/>
            <a:ext cx="596880" cy="59688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44760" y="2216160"/>
            <a:ext cx="596880" cy="59688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828800" y="2812680"/>
            <a:ext cx="0" cy="107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743200" y="2812680"/>
            <a:ext cx="0" cy="107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30360" y="3892680"/>
            <a:ext cx="596880" cy="5968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44760" y="3892680"/>
            <a:ext cx="596880" cy="5968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59160" y="3892680"/>
            <a:ext cx="596880" cy="5968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59160" y="2209680"/>
            <a:ext cx="596880" cy="59688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6840" y="2225160"/>
            <a:ext cx="2653560" cy="310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373" y="15801"/>
                </a:moveTo>
                <a:arcTo wR="10800" hR="10800" stAng="1654931" swAng="12240800"/>
                <a:lnTo>
                  <a:pt x="10800" y="10800"/>
                </a:lnTo>
                <a:close/>
              </a:path>
              <a:path fill="none" w="21600" h="21600">
                <a:moveTo>
                  <a:pt x="20373" y="15801"/>
                </a:moveTo>
                <a:arcTo wR="10800" hR="10800" stAng="1654931" swAng="122408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16560" y="2216160"/>
            <a:ext cx="596880" cy="59688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30960" y="2216160"/>
            <a:ext cx="596880" cy="59688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629400" y="2812680"/>
            <a:ext cx="0" cy="107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6560" y="3892680"/>
            <a:ext cx="596880" cy="5968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30960" y="3892680"/>
            <a:ext cx="596880" cy="5968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45360" y="3892680"/>
            <a:ext cx="596880" cy="5968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245360" y="2209680"/>
            <a:ext cx="596880" cy="59688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83040" y="2225160"/>
            <a:ext cx="2653560" cy="310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373" y="15801"/>
                </a:moveTo>
                <a:arcTo wR="10800" hR="10800" stAng="1654931" swAng="12240800"/>
                <a:lnTo>
                  <a:pt x="10800" y="10800"/>
                </a:lnTo>
                <a:close/>
              </a:path>
              <a:path fill="none" w="21600" h="21600">
                <a:moveTo>
                  <a:pt x="20373" y="15801"/>
                </a:moveTo>
                <a:arcTo wR="10800" hR="10800" stAng="1654931" swAng="122408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861160" y="2749680"/>
            <a:ext cx="622080" cy="1130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voiding Deadl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 Handling Strateg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our strategies for deadlock handl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gnore the proble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tection &amp; Recove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ynamic Avoidan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adlock Preven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otential Deadlock Area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 table limi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Max number of running processes 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-Node table limi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Max number of open fil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wap Space limi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UNIX Approach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gnore the proble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 Detection and Recove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pproach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tect occurrenc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cover blocked process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adlock Detec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eed formal algorith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urpose: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etect a cycle in a directed graph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ingle Resource of each type: Linked Lis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ultiple resources of each type: Array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Existing Resources:  total number of resourc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vailable Resources:  number of resources waiting to be used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llocation Matrix: number of resources a process ha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equest Matrix:  number of resources a process want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22T21:53:56Z</dcterms:created>
  <dc:creator>Dean Hipwell</dc:creator>
  <dc:description/>
  <dc:language>en-US</dc:language>
  <cp:lastModifiedBy>hipwelld</cp:lastModifiedBy>
  <cp:lastPrinted>1997-04-29T13:24:50Z</cp:lastPrinted>
  <dcterms:modified xsi:type="dcterms:W3CDTF">2001-01-15T19:03:47Z</dcterms:modified>
  <cp:revision>13</cp:revision>
  <dc:subject>CST400 - Operating System Theory &amp; Design</dc:subject>
  <dc:title>Chap 6 - Deadlocks</dc:title>
</cp:coreProperties>
</file>