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B7331CEC-BB71-4148-86E5-FA437F4A9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13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3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Fil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File System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Us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Structu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ach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-Server Caching Concep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che Consist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pl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n Examp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essons Learn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nds in Distributed Fil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ew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cala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ide Area Network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bile Us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ault Toler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ributed File System Desig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ributed File System 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ends in Distributed File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ributed File System Desig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ributed File System 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ends in Distributed File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65960" indent="-1659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ingle CPU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cess, Memory, File, I/O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entralized, Networked, and Distributed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Price/Performance, Reliability, Sharing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Software, Networks, Security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astes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Tightly coupled software on tightly coupled bus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ommunic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SO-OSI Model (Seven Layer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tocols (Connection-Oriented, Connectionles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lient-Server Model (Microkernel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ynchroniz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locks, Mutual Exclusion, Election Algorithm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ocesses in Distributed Systems -- THREAD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istributed Files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File System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ervice Interfa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ervice: specifies what the file system off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imitives Availab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ramet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tions Perform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erver: Helps implement the file serv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y Server Interfa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sic Concep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aming Transpar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wo-Level Nam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mantics of File Shar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ervice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undamental Structu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 &amp; DOS: sequence of by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nframe: record structur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ttribut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ervice handles attributes separate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dif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mutable” in some distributed syste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eate &amp; Read on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upport file caching &amp; replic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pability Control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icket to access with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cess Control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rs who can acces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ervice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sic Typ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pload/Downlo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nly operations are Read and Writ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oves whole fi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imple, Efficient.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eed local storage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Wasteful if only small part needed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ust control write-backs.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te Access Mod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ny kinds of operation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le system runs on the server, not the clien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ittle client space needed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omplex interface that everyone must implement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ory Server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sic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vides for creating &amp; deleting directo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ecifies alphabet &amp; syntax for nam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ierarch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ees versus Graph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Graphs can allow pointers to arbitrary directori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y result in “orphan” directori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e Machine Stor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fficult to get a snapsho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lobal Root Direct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f there is one: have it point to server root directori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ory Server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aming Transparenc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ation Transpar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th name does not indicate physical location of serv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ation Independe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th name does not include machine name at al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wo-Level Nam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ymbolic Na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nvenient for people and programs, but lo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nary Na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nvenient for system use, i.e. shor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lternative Nam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ymbolic Lin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ps directory entry onto server str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capability as binary name pointer to  machin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 of File Sha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150480" indent="-1504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IX Semantics (Single-Processor System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” always returns what was last writte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rict time-orde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0480" indent="-1504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ributed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 semantics are enforceable if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54840" indent="-156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ngle file server and No client cach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902520" indent="-14652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isadvantage: Poor performance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ching solves poor perform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54840" indent="-156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eads to incoherenc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rite-Back solves incoher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54840" indent="-156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creases net traffic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50480" indent="-1504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ributed Alternativ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ssion Semantics lock open files until writte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54840" indent="-156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not effective with child process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ke all files immu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54840" indent="-156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lways writes to new fi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398160" indent="-14652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Atomic Transactions:  All-or-Noth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3T23:20:50Z</dcterms:created>
  <dc:creator>Dean Hipwell</dc:creator>
  <dc:description/>
  <dc:language>en-US</dc:language>
  <cp:lastModifiedBy>hipwelld</cp:lastModifiedBy>
  <cp:lastPrinted>1996-08-26T00:32:02Z</cp:lastPrinted>
  <dcterms:modified xsi:type="dcterms:W3CDTF">2001-01-15T19:03:30Z</dcterms:modified>
  <cp:revision>8</cp:revision>
  <dc:subject>CST400 - Operating System Theory &amp; Design</dc:subject>
  <dc:title>Chap 13 - Distributed File System</dc:title>
</cp:coreProperties>
</file>